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C8D1-98D9-4DC9-8995-522260545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AD80-E7EA-433B-84FB-9604BE8A7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325A-C0F7-4D74-9CA9-DCC5CE7C1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4B44-F2E3-451F-98CC-C0DBF5EEA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D65F-0DFD-4400-B5B5-23684A255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2B35-577B-4A7D-B15E-9FD6FBF35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4926-17FF-4218-9E93-0876475B2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B8DE-471F-400E-973E-4C85B3D08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9A4A-47D9-41D5-9A08-EF69D96A3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AA4B-A9DC-4FA9-89F9-07405D0C1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E32B-3D99-4CC5-AB63-7F09E0934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C086-542F-48BE-AC72-CE50646A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1B8C-E850-485F-9319-1A70867BA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5804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5868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5740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5804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5868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A47A-BD2E-4523-A87A-D62F004F0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2B2A-1515-42B5-9EA1-CF58576FD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C02B-CF21-4CEE-BDC6-82E10EF5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0855-D3E9-42E8-938C-3C6528D1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6E5D-0433-47A7-B030-0AF95D60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AD04-58F6-4B04-892C-17E548E8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31960" y="274320"/>
            <a:ext cx="568008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E378-A082-48E7-AF66-F81F8707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451A-BF87-4A76-BECD-E622DA7F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7CAB-9790-49A2-A0FE-4FDB0AF8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9898-93F2-4C51-A8AA-DEA52348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442A-47C9-419C-A3B4-A97E013F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7FF50-4EF5-490F-85C2-B926D4E2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40E3-1F4C-4145-89D6-35499CA22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5804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45868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05740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75804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45868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10FAC-2672-496C-9265-C464F4A8E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248C9-8844-4B73-88BD-B69B91BAE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57BFE-FB9F-4277-96BA-0C95C7BA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9EA78-44F3-4EF5-8F8C-73664BCE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625DD-1116-4172-8C8C-6BF4B333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060BA-1272-4C17-937E-1AC2EFB4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5691-2123-4AFE-BD43-2578A09B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731960" y="274320"/>
            <a:ext cx="568008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EE794-AA97-472C-A551-D95F9621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68A5E-DA7E-4FA9-9A18-EEA17E03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641D0-A66A-4414-94A8-21AB0D5B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AC163-0C20-43DF-9D18-7B34C269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B8ED3-6939-4048-A90E-28D184D0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621BC-37C3-48AA-9B86-5ED015A06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75804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45868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05740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75804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45868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B5593-02F2-4C2C-B408-A655503F6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496F2-CDF5-4BCA-8F67-DD21AD62F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CEA6D-D30E-436A-B2D1-73B6FE50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1134B-D1B4-4C95-958B-30B9C9E1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3CA5-DA41-4158-B79A-55FC320D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130C3-2D31-4D97-B0D2-9A1B4623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43395-4455-4D9E-8B87-B9FBCC44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731960" y="274320"/>
            <a:ext cx="568008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2D473-038F-41CB-8618-DEB42B35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98CB4-1A6D-41F3-99FB-7E7200F1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FE597-171B-45F5-B6F8-CB1202E2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156A8-0534-453E-9413-95E4F280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959A6-93A8-4EC6-88FA-A3ED3A21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3DE37-1D14-47ED-8E19-AF60DB19E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75804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45868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05740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75804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45868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67EE7-98B6-41D6-A875-3DC4F527D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56B45-DB43-4770-94B0-CAE42A94B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720A-6F3C-4554-80A0-79E67939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DCFAC-6B20-4C99-A685-4E37259F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B6D6E-3FF9-4C94-9453-1F4CB6A0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F325C-15A4-4944-86D7-8DFC32CC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57C77-C298-415A-BE1B-0B660585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731960" y="274320"/>
            <a:ext cx="568008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67AEE-9EBC-4DEF-938B-EC81035C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DF76F-6C1C-4F17-8831-F6CBE08D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57A19-55CF-4EFE-B440-33E29598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C9E9C-16B9-4056-ABBF-A493CAFE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13AC7-8B84-4219-BE2A-E080D640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23311-E5A6-48FE-9650-5540A4D2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31960" y="274320"/>
            <a:ext cx="568008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1A8C-DDB9-4ECB-AF48-2BFA6C44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75804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45868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05740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75804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45868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32551-5534-4C52-9660-1830F860B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401E6-4E8C-48C3-BC10-8F3D54C00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67FA0-1DF3-4C6A-A19A-97E0F2A9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8AD93-54DF-41EE-9252-BEE290C2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8B00D-1557-47BE-8C03-D6A868D7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2E1E3-9487-40BC-A1CE-6B83200C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731960" y="274320"/>
            <a:ext cx="568008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16F55-0107-4614-94B1-99201C12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9CE8D-A95F-4BD8-8BE4-B69CFC64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419F0-EC0C-4915-AF1D-60783EA5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8E340-1D68-4A8C-9AD3-9DADA8DA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A423-9C32-4645-B7D9-E0D50669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22A45-9F08-4D15-9693-212AF420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64FAB-D973-47CD-AEFD-2AF7519F2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75804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45868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05740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75804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545868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755AF-4343-4264-8115-935418DD9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F5CC2-846A-43D8-B0A4-44BA9DFAC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A91AF-2A33-412F-9844-2EC0219A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CAAE2-CA0D-4821-8996-10ED2045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AC638-BF61-42E8-B88B-CE0B25E5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7AFBE-27FC-4001-B528-507D6CFE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731960" y="274320"/>
            <a:ext cx="568008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E45A0-E48D-4B42-AEEE-1D366729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1D6C6-59A7-4349-BDBF-F625F917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CDD4-2B22-4141-8DDC-7FCC2300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22276-E187-4035-86BF-2DD14A99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F2686-76A5-4B1F-A217-3186960E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F19F7-F250-47DF-9685-6D6C22C3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E8D9A-1ACD-4244-8794-3202093F6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75804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45868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205740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75804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45868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42A57-E9E8-457E-AF78-0A62F6399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78AC-E7A9-428A-AAAE-843B4773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9562-F0C4-4A6D-B109-152B486E6C2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125e"/>
            </a:gs>
            <a:gs pos="100000">
              <a:srgbClr val="b73dd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Firelight content.png"/>
          <p:cNvPicPr/>
          <p:nvPr/>
        </p:nvPicPr>
        <p:blipFill>
          <a:blip r:embed="rId2"/>
          <a:srcRect l="10261" t="11519" r="6261" b="874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spcBef>
                <a:spcPts val="15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spcBef>
                <a:spcPts val="15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spcBef>
                <a:spcPts val="15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spcBef>
                <a:spcPts val="15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76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2824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458200" y="624816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C9E6-A376-4695-9F44-CB5003139878}" type="slidenum">
              <a:rPr b="0" lang="en-US" sz="11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490E-7C2B-4429-BC87-283A078D543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125e"/>
            </a:gs>
            <a:gs pos="100000">
              <a:srgbClr val="b73dd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Firelight title.png"/>
          <p:cNvPicPr/>
          <p:nvPr/>
        </p:nvPicPr>
        <p:blipFill>
          <a:blip r:embed="rId2"/>
          <a:srcRect l="43434" t="21353" r="0" b="20415"/>
          <a:stretch/>
        </p:blipFill>
        <p:spPr>
          <a:xfrm>
            <a:off x="0" y="0"/>
            <a:ext cx="3672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spcBef>
                <a:spcPts val="15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spcBef>
                <a:spcPts val="15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spcBef>
                <a:spcPts val="15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spcBef>
                <a:spcPts val="15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228240" y="59432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228600" y="571464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228600" y="624816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A199-B216-40EE-BD76-432B350F6338}" type="slidenum">
              <a:rPr b="0" lang="en-US" sz="11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125e"/>
            </a:gs>
            <a:gs pos="100000">
              <a:srgbClr val="b73dd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7" descr="Firelight section.png"/>
          <p:cNvPicPr/>
          <p:nvPr/>
        </p:nvPicPr>
        <p:blipFill>
          <a:blip r:embed="rId2"/>
          <a:srcRect l="7677" t="0" r="8564" b="31687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spcBef>
                <a:spcPts val="15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spcBef>
                <a:spcPts val="15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spcBef>
                <a:spcPts val="15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spcBef>
                <a:spcPts val="15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68576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22824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8458200" y="624816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50CC-80E1-4281-BA13-A58C9886AE4E}" type="slidenum">
              <a:rPr b="0" lang="en-US" sz="11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125e"/>
            </a:gs>
            <a:gs pos="100000">
              <a:srgbClr val="b73dd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7" descr="Content caption.png"/>
          <p:cNvPicPr/>
          <p:nvPr/>
        </p:nvPicPr>
        <p:blipFill>
          <a:blip r:embed="rId2"/>
          <a:srcRect l="11342" t="23079" r="13048" b="0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spcBef>
                <a:spcPts val="15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spcBef>
                <a:spcPts val="15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spcBef>
                <a:spcPts val="15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spcBef>
                <a:spcPts val="15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68576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22824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8458200" y="624816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9000-DE10-414D-8C02-A46FD98FBA23}" type="slidenum">
              <a:rPr b="0" lang="en-US" sz="11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125e"/>
            </a:gs>
            <a:gs pos="100000">
              <a:srgbClr val="b73dd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Content caption.png"/>
          <p:cNvPicPr/>
          <p:nvPr/>
        </p:nvPicPr>
        <p:blipFill>
          <a:blip r:embed="rId2"/>
          <a:srcRect l="11342" t="23079" r="13048" b="0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spcBef>
                <a:spcPts val="15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spcBef>
                <a:spcPts val="15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spcBef>
                <a:spcPts val="15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spcBef>
                <a:spcPts val="15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68576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22824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8458200" y="624816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0D47-8533-42AF-9953-C06BD79CC164}" type="slidenum">
              <a:rPr b="0" lang="en-US" sz="11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Rectangle 2" descr=""/>
          <p:cNvPicPr/>
          <p:nvPr/>
        </p:nvPicPr>
        <p:blipFill>
          <a:blip r:embed="rId1"/>
          <a:stretch/>
        </p:blipFill>
        <p:spPr>
          <a:xfrm>
            <a:off x="1504800" y="1212840"/>
            <a:ext cx="6658200" cy="1616040"/>
          </a:xfrm>
          <a:prstGeom prst="rect">
            <a:avLst/>
          </a:prstGeom>
          <a:ln w="0">
            <a:noFill/>
          </a:ln>
        </p:spPr>
      </p:pic>
      <p:pic>
        <p:nvPicPr>
          <p:cNvPr id="300" name="Rectangle 3" descr=""/>
          <p:cNvPicPr/>
          <p:nvPr/>
        </p:nvPicPr>
        <p:blipFill>
          <a:blip r:embed="rId2"/>
          <a:stretch/>
        </p:blipFill>
        <p:spPr>
          <a:xfrm>
            <a:off x="2382840" y="2932200"/>
            <a:ext cx="57801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Rectangle 2" descr=""/>
          <p:cNvPicPr/>
          <p:nvPr/>
        </p:nvPicPr>
        <p:blipFill>
          <a:blip r:embed="rId1"/>
          <a:stretch/>
        </p:blipFill>
        <p:spPr>
          <a:xfrm>
            <a:off x="1725480" y="268200"/>
            <a:ext cx="5693040" cy="1494000"/>
          </a:xfrm>
          <a:prstGeom prst="rect">
            <a:avLst/>
          </a:prstGeom>
          <a:ln w="0">
            <a:noFill/>
          </a:ln>
        </p:spPr>
      </p:pic>
      <p:pic>
        <p:nvPicPr>
          <p:cNvPr id="766" name="Rectangle 3" descr=""/>
          <p:cNvPicPr/>
          <p:nvPr/>
        </p:nvPicPr>
        <p:blipFill>
          <a:blip r:embed="rId2"/>
          <a:stretch/>
        </p:blipFill>
        <p:spPr>
          <a:xfrm>
            <a:off x="2054160" y="2054160"/>
            <a:ext cx="5041800" cy="3895920"/>
          </a:xfrm>
          <a:prstGeom prst="rect">
            <a:avLst/>
          </a:prstGeom>
          <a:ln w="0">
            <a:noFill/>
          </a:ln>
        </p:spPr>
      </p:pic>
      <p:sp>
        <p:nvSpPr>
          <p:cNvPr id="767" name="SMARTPenAnnotation0"/>
          <p:cNvSpPr/>
          <p:nvPr/>
        </p:nvSpPr>
        <p:spPr>
          <a:xfrm>
            <a:off x="1692360" y="4286160"/>
            <a:ext cx="114120" cy="1817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SMARTPenAnnotation1"/>
          <p:cNvSpPr/>
          <p:nvPr/>
        </p:nvSpPr>
        <p:spPr>
          <a:xfrm>
            <a:off x="593640" y="5227560"/>
            <a:ext cx="2481480" cy="144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SMARTPenAnnotation2"/>
          <p:cNvSpPr/>
          <p:nvPr/>
        </p:nvSpPr>
        <p:spPr>
          <a:xfrm>
            <a:off x="1096920" y="3817800"/>
            <a:ext cx="1035000" cy="1040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SMARTPenAnnotation3"/>
          <p:cNvSpPr/>
          <p:nvPr/>
        </p:nvSpPr>
        <p:spPr>
          <a:xfrm>
            <a:off x="1897200" y="5383080"/>
            <a:ext cx="538200" cy="378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SMARTPenAnnotation4"/>
          <p:cNvSpPr/>
          <p:nvPr/>
        </p:nvSpPr>
        <p:spPr>
          <a:xfrm>
            <a:off x="2503440" y="5559480"/>
            <a:ext cx="68400" cy="190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SMARTPenAnnotation5"/>
          <p:cNvSpPr/>
          <p:nvPr/>
        </p:nvSpPr>
        <p:spPr>
          <a:xfrm>
            <a:off x="2514600" y="5457960"/>
            <a:ext cx="1303200" cy="620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SMARTPenAnnotation6"/>
          <p:cNvSpPr/>
          <p:nvPr/>
        </p:nvSpPr>
        <p:spPr>
          <a:xfrm>
            <a:off x="4960800" y="5006880"/>
            <a:ext cx="2708280" cy="795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SMARTPenAnnotation7"/>
          <p:cNvSpPr/>
          <p:nvPr/>
        </p:nvSpPr>
        <p:spPr>
          <a:xfrm>
            <a:off x="6348240" y="3714840"/>
            <a:ext cx="212760" cy="2697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SMARTPenAnnotation8"/>
          <p:cNvSpPr/>
          <p:nvPr/>
        </p:nvSpPr>
        <p:spPr>
          <a:xfrm>
            <a:off x="5489640" y="3622680"/>
            <a:ext cx="2190600" cy="2835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SMARTPenAnnotation9"/>
          <p:cNvSpPr/>
          <p:nvPr/>
        </p:nvSpPr>
        <p:spPr>
          <a:xfrm>
            <a:off x="5715000" y="5246640"/>
            <a:ext cx="182520" cy="376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MARTPenAnnotation10"/>
          <p:cNvSpPr/>
          <p:nvPr/>
        </p:nvSpPr>
        <p:spPr>
          <a:xfrm>
            <a:off x="5715000" y="5613480"/>
            <a:ext cx="353880" cy="33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MARTPenAnnotation11"/>
          <p:cNvSpPr/>
          <p:nvPr/>
        </p:nvSpPr>
        <p:spPr>
          <a:xfrm>
            <a:off x="6126120" y="5407200"/>
            <a:ext cx="217440" cy="249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MARTPenAnnotation12"/>
          <p:cNvSpPr/>
          <p:nvPr/>
        </p:nvSpPr>
        <p:spPr>
          <a:xfrm>
            <a:off x="6423120" y="5338800"/>
            <a:ext cx="160200" cy="284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MARTPenAnnotation13"/>
          <p:cNvSpPr/>
          <p:nvPr/>
        </p:nvSpPr>
        <p:spPr>
          <a:xfrm>
            <a:off x="6651720" y="5241960"/>
            <a:ext cx="412560" cy="403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MARTPenAnnotation14"/>
          <p:cNvSpPr/>
          <p:nvPr/>
        </p:nvSpPr>
        <p:spPr>
          <a:xfrm>
            <a:off x="7407360" y="5292720"/>
            <a:ext cx="239760" cy="318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SMARTPenAnnotation15"/>
          <p:cNvSpPr/>
          <p:nvPr/>
        </p:nvSpPr>
        <p:spPr>
          <a:xfrm>
            <a:off x="7840800" y="5361120"/>
            <a:ext cx="23760" cy="239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SMARTPenAnnotation16"/>
          <p:cNvSpPr/>
          <p:nvPr/>
        </p:nvSpPr>
        <p:spPr>
          <a:xfrm>
            <a:off x="7864560" y="5600880"/>
            <a:ext cx="3240" cy="360"/>
          </a:xfrm>
          <a:prstGeom prst="pie">
            <a:avLst/>
          </a:prstGeom>
          <a:solidFill>
            <a:srgbClr val="ff388c"/>
          </a:solidFill>
          <a:ln w="38160">
            <a:solidFill>
              <a:srgbClr val="009d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MARTPenAnnotation17"/>
          <p:cNvSpPr/>
          <p:nvPr/>
        </p:nvSpPr>
        <p:spPr>
          <a:xfrm>
            <a:off x="7794720" y="5280120"/>
            <a:ext cx="4680" cy="360"/>
          </a:xfrm>
          <a:prstGeom prst="pie">
            <a:avLst/>
          </a:prstGeom>
          <a:solidFill>
            <a:srgbClr val="ff388c"/>
          </a:solidFill>
          <a:ln w="38160">
            <a:solidFill>
              <a:srgbClr val="009d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SMARTPenAnnotation18"/>
          <p:cNvSpPr/>
          <p:nvPr/>
        </p:nvSpPr>
        <p:spPr>
          <a:xfrm>
            <a:off x="7937640" y="5332320"/>
            <a:ext cx="303120" cy="257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SMARTPenAnnotation19"/>
          <p:cNvSpPr/>
          <p:nvPr/>
        </p:nvSpPr>
        <p:spPr>
          <a:xfrm>
            <a:off x="8310600" y="5313240"/>
            <a:ext cx="182520" cy="2066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MARTPenAnnotation20"/>
          <p:cNvSpPr/>
          <p:nvPr/>
        </p:nvSpPr>
        <p:spPr>
          <a:xfrm>
            <a:off x="8551800" y="5257800"/>
            <a:ext cx="179280" cy="611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SMARTPenAnnotation21"/>
          <p:cNvSpPr/>
          <p:nvPr/>
        </p:nvSpPr>
        <p:spPr>
          <a:xfrm>
            <a:off x="8847000" y="5376960"/>
            <a:ext cx="11160" cy="52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SMARTPenAnnotation22"/>
          <p:cNvSpPr/>
          <p:nvPr/>
        </p:nvSpPr>
        <p:spPr>
          <a:xfrm>
            <a:off x="4264200" y="2732040"/>
            <a:ext cx="2582640" cy="46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SMARTPenAnnotation23"/>
          <p:cNvSpPr/>
          <p:nvPr/>
        </p:nvSpPr>
        <p:spPr>
          <a:xfrm>
            <a:off x="5646600" y="1943280"/>
            <a:ext cx="57240" cy="1874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SMARTPenAnnotation24"/>
          <p:cNvSpPr/>
          <p:nvPr/>
        </p:nvSpPr>
        <p:spPr>
          <a:xfrm>
            <a:off x="4708440" y="2400480"/>
            <a:ext cx="1943280" cy="1657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SMARTPenAnnotation25"/>
          <p:cNvSpPr/>
          <p:nvPr/>
        </p:nvSpPr>
        <p:spPr>
          <a:xfrm>
            <a:off x="6046920" y="1828800"/>
            <a:ext cx="250560" cy="217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SMARTPenAnnotation26"/>
          <p:cNvSpPr/>
          <p:nvPr/>
        </p:nvSpPr>
        <p:spPr>
          <a:xfrm>
            <a:off x="6229440" y="1782720"/>
            <a:ext cx="57240" cy="503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SMARTPenAnnotation27"/>
          <p:cNvSpPr/>
          <p:nvPr/>
        </p:nvSpPr>
        <p:spPr>
          <a:xfrm>
            <a:off x="6411960" y="1943280"/>
            <a:ext cx="285840" cy="306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SMARTPenAnnotation28"/>
          <p:cNvSpPr/>
          <p:nvPr/>
        </p:nvSpPr>
        <p:spPr>
          <a:xfrm>
            <a:off x="6675480" y="1967040"/>
            <a:ext cx="147600" cy="237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SMARTPenAnnotation29"/>
          <p:cNvSpPr/>
          <p:nvPr/>
        </p:nvSpPr>
        <p:spPr>
          <a:xfrm>
            <a:off x="6915240" y="1612800"/>
            <a:ext cx="492120" cy="546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SMARTPenAnnotation30"/>
          <p:cNvSpPr/>
          <p:nvPr/>
        </p:nvSpPr>
        <p:spPr>
          <a:xfrm>
            <a:off x="4745160" y="2736720"/>
            <a:ext cx="158760" cy="127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SMARTPenAnnotation31"/>
          <p:cNvSpPr/>
          <p:nvPr/>
        </p:nvSpPr>
        <p:spPr>
          <a:xfrm>
            <a:off x="5132520" y="2697120"/>
            <a:ext cx="122040" cy="147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SMARTPenAnnotation32"/>
          <p:cNvSpPr/>
          <p:nvPr/>
        </p:nvSpPr>
        <p:spPr>
          <a:xfrm>
            <a:off x="5875200" y="2674800"/>
            <a:ext cx="152640" cy="158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MARTPenAnnotation33"/>
          <p:cNvSpPr/>
          <p:nvPr/>
        </p:nvSpPr>
        <p:spPr>
          <a:xfrm>
            <a:off x="6321600" y="2709720"/>
            <a:ext cx="114120" cy="203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SMARTPenAnnotation34"/>
          <p:cNvSpPr/>
          <p:nvPr/>
        </p:nvSpPr>
        <p:spPr>
          <a:xfrm>
            <a:off x="5451480" y="4984920"/>
            <a:ext cx="138240" cy="133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Rectangle 2" descr=""/>
          <p:cNvPicPr/>
          <p:nvPr/>
        </p:nvPicPr>
        <p:blipFill>
          <a:blip r:embed="rId1"/>
          <a:stretch/>
        </p:blipFill>
        <p:spPr>
          <a:xfrm>
            <a:off x="1725480" y="268200"/>
            <a:ext cx="5693040" cy="1494000"/>
          </a:xfrm>
          <a:prstGeom prst="rect">
            <a:avLst/>
          </a:prstGeom>
          <a:ln w="0">
            <a:noFill/>
          </a:ln>
        </p:spPr>
      </p:pic>
      <p:pic>
        <p:nvPicPr>
          <p:cNvPr id="302" name="Rectangle 3" descr=""/>
          <p:cNvPicPr/>
          <p:nvPr/>
        </p:nvPicPr>
        <p:blipFill>
          <a:blip r:embed="rId2"/>
          <a:stretch/>
        </p:blipFill>
        <p:spPr>
          <a:xfrm>
            <a:off x="2054160" y="2023920"/>
            <a:ext cx="509580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Rectangle 2" descr=""/>
          <p:cNvPicPr/>
          <p:nvPr/>
        </p:nvPicPr>
        <p:blipFill>
          <a:blip r:embed="rId1"/>
          <a:stretch/>
        </p:blipFill>
        <p:spPr>
          <a:xfrm>
            <a:off x="1725480" y="268200"/>
            <a:ext cx="5693040" cy="1494000"/>
          </a:xfrm>
          <a:prstGeom prst="rect">
            <a:avLst/>
          </a:prstGeom>
          <a:ln w="0">
            <a:noFill/>
          </a:ln>
        </p:spPr>
      </p:pic>
      <p:pic>
        <p:nvPicPr>
          <p:cNvPr id="304" name="Rectangle 3" descr=""/>
          <p:cNvPicPr/>
          <p:nvPr/>
        </p:nvPicPr>
        <p:blipFill>
          <a:blip r:embed="rId2"/>
          <a:stretch/>
        </p:blipFill>
        <p:spPr>
          <a:xfrm>
            <a:off x="1994040" y="2023920"/>
            <a:ext cx="5101920" cy="3926160"/>
          </a:xfrm>
          <a:prstGeom prst="rect">
            <a:avLst/>
          </a:prstGeom>
          <a:ln w="0">
            <a:noFill/>
          </a:ln>
        </p:spPr>
      </p:pic>
      <p:sp>
        <p:nvSpPr>
          <p:cNvPr id="305" name="SMARTPenAnnotation428"/>
          <p:cNvSpPr/>
          <p:nvPr/>
        </p:nvSpPr>
        <p:spPr>
          <a:xfrm>
            <a:off x="7108920" y="2263680"/>
            <a:ext cx="320760" cy="385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MARTPenAnnotation429"/>
          <p:cNvSpPr/>
          <p:nvPr/>
        </p:nvSpPr>
        <p:spPr>
          <a:xfrm>
            <a:off x="7566120" y="2389320"/>
            <a:ext cx="23760" cy="250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MARTPenAnnotation430"/>
          <p:cNvSpPr/>
          <p:nvPr/>
        </p:nvSpPr>
        <p:spPr>
          <a:xfrm>
            <a:off x="7521480" y="2206800"/>
            <a:ext cx="22320" cy="33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MARTPenAnnotation431"/>
          <p:cNvSpPr/>
          <p:nvPr/>
        </p:nvSpPr>
        <p:spPr>
          <a:xfrm>
            <a:off x="6937200" y="2914560"/>
            <a:ext cx="409680" cy="468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MARTPenAnnotation432"/>
          <p:cNvSpPr/>
          <p:nvPr/>
        </p:nvSpPr>
        <p:spPr>
          <a:xfrm>
            <a:off x="7429680" y="2846520"/>
            <a:ext cx="993600" cy="571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MARTPenAnnotation433"/>
          <p:cNvSpPr/>
          <p:nvPr/>
        </p:nvSpPr>
        <p:spPr>
          <a:xfrm>
            <a:off x="7635960" y="3178080"/>
            <a:ext cx="296640" cy="2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MARTPenAnnotation434"/>
          <p:cNvSpPr/>
          <p:nvPr/>
        </p:nvSpPr>
        <p:spPr>
          <a:xfrm>
            <a:off x="8023320" y="2971800"/>
            <a:ext cx="69840" cy="422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MARTPenAnnotation435"/>
          <p:cNvSpPr/>
          <p:nvPr/>
        </p:nvSpPr>
        <p:spPr>
          <a:xfrm>
            <a:off x="7418520" y="2062080"/>
            <a:ext cx="411120" cy="795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MARTPenAnnotation436"/>
          <p:cNvSpPr/>
          <p:nvPr/>
        </p:nvSpPr>
        <p:spPr>
          <a:xfrm>
            <a:off x="7340760" y="2639880"/>
            <a:ext cx="1220760" cy="9255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MARTPenAnnotation437"/>
          <p:cNvSpPr/>
          <p:nvPr/>
        </p:nvSpPr>
        <p:spPr>
          <a:xfrm>
            <a:off x="2046240" y="4208400"/>
            <a:ext cx="365040" cy="9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MARTPenAnnotation438"/>
          <p:cNvSpPr/>
          <p:nvPr/>
        </p:nvSpPr>
        <p:spPr>
          <a:xfrm>
            <a:off x="2664000" y="4218120"/>
            <a:ext cx="285480" cy="11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MARTPenAnnotation439"/>
          <p:cNvSpPr/>
          <p:nvPr/>
        </p:nvSpPr>
        <p:spPr>
          <a:xfrm>
            <a:off x="1965240" y="4435560"/>
            <a:ext cx="376200" cy="525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MARTPenAnnotation440"/>
          <p:cNvSpPr/>
          <p:nvPr/>
        </p:nvSpPr>
        <p:spPr>
          <a:xfrm>
            <a:off x="2457360" y="4664160"/>
            <a:ext cx="11160" cy="330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MARTPenAnnotation441"/>
          <p:cNvSpPr/>
          <p:nvPr/>
        </p:nvSpPr>
        <p:spPr>
          <a:xfrm>
            <a:off x="2435400" y="4492800"/>
            <a:ext cx="44280" cy="10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MARTPenAnnotation442"/>
          <p:cNvSpPr/>
          <p:nvPr/>
        </p:nvSpPr>
        <p:spPr>
          <a:xfrm>
            <a:off x="1177920" y="4378320"/>
            <a:ext cx="44280" cy="6285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MARTPenAnnotation443"/>
          <p:cNvSpPr/>
          <p:nvPr/>
        </p:nvSpPr>
        <p:spPr>
          <a:xfrm>
            <a:off x="1349280" y="4664160"/>
            <a:ext cx="308160" cy="22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MARTPenAnnotation444"/>
          <p:cNvSpPr/>
          <p:nvPr/>
        </p:nvSpPr>
        <p:spPr>
          <a:xfrm>
            <a:off x="1531800" y="4525920"/>
            <a:ext cx="22320" cy="399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MARTPenAnnotation445"/>
          <p:cNvSpPr/>
          <p:nvPr/>
        </p:nvSpPr>
        <p:spPr>
          <a:xfrm>
            <a:off x="606600" y="5218200"/>
            <a:ext cx="182520" cy="214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MARTPenAnnotation446"/>
          <p:cNvSpPr/>
          <p:nvPr/>
        </p:nvSpPr>
        <p:spPr>
          <a:xfrm>
            <a:off x="846000" y="5189400"/>
            <a:ext cx="171720" cy="225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MARTPenAnnotation447"/>
          <p:cNvSpPr/>
          <p:nvPr/>
        </p:nvSpPr>
        <p:spPr>
          <a:xfrm>
            <a:off x="1108080" y="5235480"/>
            <a:ext cx="298440" cy="239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MARTPenAnnotation448"/>
          <p:cNvSpPr/>
          <p:nvPr/>
        </p:nvSpPr>
        <p:spPr>
          <a:xfrm>
            <a:off x="1463760" y="5121360"/>
            <a:ext cx="169920" cy="336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MARTPenAnnotation449"/>
          <p:cNvSpPr/>
          <p:nvPr/>
        </p:nvSpPr>
        <p:spPr>
          <a:xfrm>
            <a:off x="1622520" y="5303880"/>
            <a:ext cx="263520" cy="182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MARTPenAnnotation450"/>
          <p:cNvSpPr/>
          <p:nvPr/>
        </p:nvSpPr>
        <p:spPr>
          <a:xfrm>
            <a:off x="1989000" y="5315040"/>
            <a:ext cx="136800" cy="203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MARTPenAnnotation451"/>
          <p:cNvSpPr/>
          <p:nvPr/>
        </p:nvSpPr>
        <p:spPr>
          <a:xfrm>
            <a:off x="2457360" y="5235480"/>
            <a:ext cx="365040" cy="250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MARTPenAnnotation452"/>
          <p:cNvSpPr/>
          <p:nvPr/>
        </p:nvSpPr>
        <p:spPr>
          <a:xfrm>
            <a:off x="2354400" y="5165640"/>
            <a:ext cx="639720" cy="246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MARTPenAnnotation453"/>
          <p:cNvSpPr/>
          <p:nvPr/>
        </p:nvSpPr>
        <p:spPr>
          <a:xfrm>
            <a:off x="3132000" y="5646600"/>
            <a:ext cx="360" cy="1828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MARTPenAnnotation454"/>
          <p:cNvSpPr/>
          <p:nvPr/>
        </p:nvSpPr>
        <p:spPr>
          <a:xfrm>
            <a:off x="3086280" y="5486400"/>
            <a:ext cx="10800" cy="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MARTPenAnnotation455"/>
          <p:cNvSpPr/>
          <p:nvPr/>
        </p:nvSpPr>
        <p:spPr>
          <a:xfrm>
            <a:off x="3189240" y="5611680"/>
            <a:ext cx="399960" cy="217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MARTPenAnnotation456"/>
          <p:cNvSpPr/>
          <p:nvPr/>
        </p:nvSpPr>
        <p:spPr>
          <a:xfrm>
            <a:off x="3627360" y="5635800"/>
            <a:ext cx="281160" cy="204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MARTPenAnnotation457"/>
          <p:cNvSpPr/>
          <p:nvPr/>
        </p:nvSpPr>
        <p:spPr>
          <a:xfrm>
            <a:off x="3909960" y="5641920"/>
            <a:ext cx="330120" cy="541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MARTPenAnnotation458"/>
          <p:cNvSpPr/>
          <p:nvPr/>
        </p:nvSpPr>
        <p:spPr>
          <a:xfrm>
            <a:off x="4343400" y="5646600"/>
            <a:ext cx="203040" cy="193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MARTPenAnnotation459"/>
          <p:cNvSpPr/>
          <p:nvPr/>
        </p:nvSpPr>
        <p:spPr>
          <a:xfrm>
            <a:off x="4624560" y="5657760"/>
            <a:ext cx="187200" cy="193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MARTPenAnnotation460"/>
          <p:cNvSpPr/>
          <p:nvPr/>
        </p:nvSpPr>
        <p:spPr>
          <a:xfrm>
            <a:off x="4903920" y="5692680"/>
            <a:ext cx="525240" cy="730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MARTPenAnnotation461"/>
          <p:cNvSpPr/>
          <p:nvPr/>
        </p:nvSpPr>
        <p:spPr>
          <a:xfrm>
            <a:off x="4092480" y="5440320"/>
            <a:ext cx="11160" cy="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MARTPenAnnotation462"/>
          <p:cNvSpPr/>
          <p:nvPr/>
        </p:nvSpPr>
        <p:spPr>
          <a:xfrm>
            <a:off x="5468760" y="4046400"/>
            <a:ext cx="314640" cy="238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MARTPenAnnotation463"/>
          <p:cNvSpPr/>
          <p:nvPr/>
        </p:nvSpPr>
        <p:spPr>
          <a:xfrm>
            <a:off x="5694480" y="3989520"/>
            <a:ext cx="81000" cy="676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MARTPenAnnotation464"/>
          <p:cNvSpPr/>
          <p:nvPr/>
        </p:nvSpPr>
        <p:spPr>
          <a:xfrm>
            <a:off x="5897520" y="4286160"/>
            <a:ext cx="57240" cy="290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MARTPenAnnotation465"/>
          <p:cNvSpPr/>
          <p:nvPr/>
        </p:nvSpPr>
        <p:spPr>
          <a:xfrm>
            <a:off x="5807160" y="4052880"/>
            <a:ext cx="65160" cy="73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MARTPenAnnotation466"/>
          <p:cNvSpPr/>
          <p:nvPr/>
        </p:nvSpPr>
        <p:spPr>
          <a:xfrm>
            <a:off x="6103800" y="4365720"/>
            <a:ext cx="319320" cy="34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MARTPenAnnotation467"/>
          <p:cNvSpPr/>
          <p:nvPr/>
        </p:nvSpPr>
        <p:spPr>
          <a:xfrm>
            <a:off x="6172200" y="4218120"/>
            <a:ext cx="114480" cy="436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MARTPenAnnotation468"/>
          <p:cNvSpPr/>
          <p:nvPr/>
        </p:nvSpPr>
        <p:spPr>
          <a:xfrm>
            <a:off x="6469200" y="4079880"/>
            <a:ext cx="320400" cy="549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MARTPenAnnotation469"/>
          <p:cNvSpPr/>
          <p:nvPr/>
        </p:nvSpPr>
        <p:spPr>
          <a:xfrm>
            <a:off x="6892920" y="4240080"/>
            <a:ext cx="57240" cy="366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MARTPenAnnotation470"/>
          <p:cNvSpPr/>
          <p:nvPr/>
        </p:nvSpPr>
        <p:spPr>
          <a:xfrm>
            <a:off x="6813720" y="4035600"/>
            <a:ext cx="31680" cy="44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MARTPenAnnotation471"/>
          <p:cNvSpPr/>
          <p:nvPr/>
        </p:nvSpPr>
        <p:spPr>
          <a:xfrm>
            <a:off x="7086600" y="4311720"/>
            <a:ext cx="320760" cy="42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MARTPenAnnotation472"/>
          <p:cNvSpPr/>
          <p:nvPr/>
        </p:nvSpPr>
        <p:spPr>
          <a:xfrm>
            <a:off x="7155000" y="4194000"/>
            <a:ext cx="125280" cy="446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MARTPenAnnotation473"/>
          <p:cNvSpPr/>
          <p:nvPr/>
        </p:nvSpPr>
        <p:spPr>
          <a:xfrm>
            <a:off x="7396200" y="4022640"/>
            <a:ext cx="398520" cy="579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MARTPenAnnotation474"/>
          <p:cNvSpPr/>
          <p:nvPr/>
        </p:nvSpPr>
        <p:spPr>
          <a:xfrm>
            <a:off x="7921800" y="4264200"/>
            <a:ext cx="318960" cy="33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MARTPenAnnotation475"/>
          <p:cNvSpPr/>
          <p:nvPr/>
        </p:nvSpPr>
        <p:spPr>
          <a:xfrm>
            <a:off x="8379000" y="3943440"/>
            <a:ext cx="99720" cy="593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MARTPenAnnotation476"/>
          <p:cNvSpPr/>
          <p:nvPr/>
        </p:nvSpPr>
        <p:spPr>
          <a:xfrm>
            <a:off x="8458200" y="4525920"/>
            <a:ext cx="3240" cy="360"/>
          </a:xfrm>
          <a:prstGeom prst="pie">
            <a:avLst/>
          </a:prstGeom>
          <a:solidFill>
            <a:srgbClr val="ff388c"/>
          </a:solidFill>
          <a:ln w="381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MARTPenAnnotation477"/>
          <p:cNvSpPr/>
          <p:nvPr/>
        </p:nvSpPr>
        <p:spPr>
          <a:xfrm>
            <a:off x="5730840" y="5097600"/>
            <a:ext cx="291960" cy="23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MARTPenAnnotation478"/>
          <p:cNvSpPr/>
          <p:nvPr/>
        </p:nvSpPr>
        <p:spPr>
          <a:xfrm>
            <a:off x="5668920" y="5257800"/>
            <a:ext cx="378000" cy="11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MARTPenAnnotation479"/>
          <p:cNvSpPr/>
          <p:nvPr/>
        </p:nvSpPr>
        <p:spPr>
          <a:xfrm>
            <a:off x="6404040" y="4822920"/>
            <a:ext cx="317520" cy="2966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MARTPenAnnotation480"/>
          <p:cNvSpPr/>
          <p:nvPr/>
        </p:nvSpPr>
        <p:spPr>
          <a:xfrm>
            <a:off x="6651720" y="4789440"/>
            <a:ext cx="12600" cy="6508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MARTPenAnnotation481"/>
          <p:cNvSpPr/>
          <p:nvPr/>
        </p:nvSpPr>
        <p:spPr>
          <a:xfrm>
            <a:off x="6823080" y="5065560"/>
            <a:ext cx="399960" cy="540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MARTPenAnnotation482"/>
          <p:cNvSpPr/>
          <p:nvPr/>
        </p:nvSpPr>
        <p:spPr>
          <a:xfrm>
            <a:off x="6975360" y="4919760"/>
            <a:ext cx="146160" cy="463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MARTPenAnnotation483"/>
          <p:cNvSpPr/>
          <p:nvPr/>
        </p:nvSpPr>
        <p:spPr>
          <a:xfrm>
            <a:off x="7429680" y="4870440"/>
            <a:ext cx="323640" cy="490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MARTPenAnnotation484"/>
          <p:cNvSpPr/>
          <p:nvPr/>
        </p:nvSpPr>
        <p:spPr>
          <a:xfrm>
            <a:off x="7840800" y="5018040"/>
            <a:ext cx="81000" cy="262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MARTPenAnnotation485"/>
          <p:cNvSpPr/>
          <p:nvPr/>
        </p:nvSpPr>
        <p:spPr>
          <a:xfrm>
            <a:off x="7788240" y="4846680"/>
            <a:ext cx="41400" cy="22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Rectangle 2" descr=""/>
          <p:cNvPicPr/>
          <p:nvPr/>
        </p:nvPicPr>
        <p:blipFill>
          <a:blip r:embed="rId1"/>
          <a:stretch/>
        </p:blipFill>
        <p:spPr>
          <a:xfrm>
            <a:off x="1725480" y="268200"/>
            <a:ext cx="5778720" cy="1494000"/>
          </a:xfrm>
          <a:prstGeom prst="rect">
            <a:avLst/>
          </a:prstGeom>
          <a:ln w="0">
            <a:noFill/>
          </a:ln>
        </p:spPr>
      </p:pic>
      <p:pic>
        <p:nvPicPr>
          <p:cNvPr id="364" name="Rectangle 3" descr=""/>
          <p:cNvPicPr/>
          <p:nvPr/>
        </p:nvPicPr>
        <p:blipFill>
          <a:blip r:embed="rId2"/>
          <a:stretch/>
        </p:blipFill>
        <p:spPr>
          <a:xfrm>
            <a:off x="1994040" y="2023920"/>
            <a:ext cx="5101920" cy="3926160"/>
          </a:xfrm>
          <a:prstGeom prst="rect">
            <a:avLst/>
          </a:prstGeom>
          <a:ln w="0">
            <a:noFill/>
          </a:ln>
        </p:spPr>
      </p:pic>
      <p:sp>
        <p:nvSpPr>
          <p:cNvPr id="365" name="SMARTPenAnnotation310"/>
          <p:cNvSpPr/>
          <p:nvPr/>
        </p:nvSpPr>
        <p:spPr>
          <a:xfrm>
            <a:off x="2274840" y="2641680"/>
            <a:ext cx="479520" cy="444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MARTPenAnnotation311"/>
          <p:cNvSpPr/>
          <p:nvPr/>
        </p:nvSpPr>
        <p:spPr>
          <a:xfrm>
            <a:off x="2892600" y="2639880"/>
            <a:ext cx="444240" cy="400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MARTPenAnnotation312"/>
          <p:cNvSpPr/>
          <p:nvPr/>
        </p:nvSpPr>
        <p:spPr>
          <a:xfrm>
            <a:off x="3486240" y="2811600"/>
            <a:ext cx="331560" cy="10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MARTPenAnnotation313"/>
          <p:cNvSpPr/>
          <p:nvPr/>
        </p:nvSpPr>
        <p:spPr>
          <a:xfrm>
            <a:off x="3611520" y="2708280"/>
            <a:ext cx="57240" cy="342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MARTPenAnnotation314"/>
          <p:cNvSpPr/>
          <p:nvPr/>
        </p:nvSpPr>
        <p:spPr>
          <a:xfrm>
            <a:off x="3921120" y="2560680"/>
            <a:ext cx="239760" cy="235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MARTPenAnnotation315"/>
          <p:cNvSpPr/>
          <p:nvPr/>
        </p:nvSpPr>
        <p:spPr>
          <a:xfrm>
            <a:off x="4092480" y="2560680"/>
            <a:ext cx="22320" cy="517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MARTPenAnnotation316"/>
          <p:cNvSpPr/>
          <p:nvPr/>
        </p:nvSpPr>
        <p:spPr>
          <a:xfrm>
            <a:off x="4286160" y="2835360"/>
            <a:ext cx="20880" cy="193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MARTPenAnnotation317"/>
          <p:cNvSpPr/>
          <p:nvPr/>
        </p:nvSpPr>
        <p:spPr>
          <a:xfrm>
            <a:off x="4206960" y="2664000"/>
            <a:ext cx="11160" cy="21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MARTPenAnnotation318"/>
          <p:cNvSpPr/>
          <p:nvPr/>
        </p:nvSpPr>
        <p:spPr>
          <a:xfrm>
            <a:off x="4468680" y="2822400"/>
            <a:ext cx="252720" cy="46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MARTPenAnnotation319"/>
          <p:cNvSpPr/>
          <p:nvPr/>
        </p:nvSpPr>
        <p:spPr>
          <a:xfrm>
            <a:off x="4824360" y="2549520"/>
            <a:ext cx="351000" cy="455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MARTPenAnnotation320"/>
          <p:cNvSpPr/>
          <p:nvPr/>
        </p:nvSpPr>
        <p:spPr>
          <a:xfrm>
            <a:off x="5246640" y="2732040"/>
            <a:ext cx="11160" cy="287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MARTPenAnnotation321"/>
          <p:cNvSpPr/>
          <p:nvPr/>
        </p:nvSpPr>
        <p:spPr>
          <a:xfrm>
            <a:off x="5054760" y="2492280"/>
            <a:ext cx="31680" cy="33480"/>
          </a:xfrm>
          <a:prstGeom prst="pie">
            <a:avLst/>
          </a:prstGeom>
          <a:solidFill>
            <a:srgbClr val="ff388c"/>
          </a:solidFill>
          <a:ln w="38160">
            <a:solidFill>
              <a:srgbClr val="009d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MARTPenAnnotation322"/>
          <p:cNvSpPr/>
          <p:nvPr/>
        </p:nvSpPr>
        <p:spPr>
          <a:xfrm>
            <a:off x="5218200" y="2571840"/>
            <a:ext cx="50760" cy="46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MARTPenAnnotation323"/>
          <p:cNvSpPr/>
          <p:nvPr/>
        </p:nvSpPr>
        <p:spPr>
          <a:xfrm>
            <a:off x="5349960" y="2879640"/>
            <a:ext cx="353880" cy="34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MARTPenAnnotation324"/>
          <p:cNvSpPr/>
          <p:nvPr/>
        </p:nvSpPr>
        <p:spPr>
          <a:xfrm>
            <a:off x="5886360" y="2754360"/>
            <a:ext cx="22320" cy="285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MARTPenAnnotation325"/>
          <p:cNvSpPr/>
          <p:nvPr/>
        </p:nvSpPr>
        <p:spPr>
          <a:xfrm>
            <a:off x="5807160" y="2536920"/>
            <a:ext cx="11160" cy="34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MARTPenAnnotation326"/>
          <p:cNvSpPr/>
          <p:nvPr/>
        </p:nvSpPr>
        <p:spPr>
          <a:xfrm>
            <a:off x="6022800" y="2514600"/>
            <a:ext cx="274680" cy="263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MARTPenAnnotation327"/>
          <p:cNvSpPr/>
          <p:nvPr/>
        </p:nvSpPr>
        <p:spPr>
          <a:xfrm>
            <a:off x="6607080" y="2835360"/>
            <a:ext cx="193680" cy="33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MARTPenAnnotation328"/>
          <p:cNvSpPr/>
          <p:nvPr/>
        </p:nvSpPr>
        <p:spPr>
          <a:xfrm>
            <a:off x="6561000" y="2936880"/>
            <a:ext cx="193680" cy="46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MARTPenAnnotation329"/>
          <p:cNvSpPr/>
          <p:nvPr/>
        </p:nvSpPr>
        <p:spPr>
          <a:xfrm>
            <a:off x="7007400" y="2597040"/>
            <a:ext cx="307800" cy="524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MARTPenAnnotation330"/>
          <p:cNvSpPr/>
          <p:nvPr/>
        </p:nvSpPr>
        <p:spPr>
          <a:xfrm>
            <a:off x="7337520" y="2629080"/>
            <a:ext cx="285480" cy="421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MARTPenAnnotation331"/>
          <p:cNvSpPr/>
          <p:nvPr/>
        </p:nvSpPr>
        <p:spPr>
          <a:xfrm>
            <a:off x="7737480" y="2868480"/>
            <a:ext cx="241200" cy="24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MARTPenAnnotation332"/>
          <p:cNvSpPr/>
          <p:nvPr/>
        </p:nvSpPr>
        <p:spPr>
          <a:xfrm>
            <a:off x="8012160" y="2754360"/>
            <a:ext cx="76320" cy="2966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MARTPenAnnotation333"/>
          <p:cNvSpPr/>
          <p:nvPr/>
        </p:nvSpPr>
        <p:spPr>
          <a:xfrm>
            <a:off x="7954920" y="2530440"/>
            <a:ext cx="33480" cy="41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MARTPenAnnotation334"/>
          <p:cNvSpPr/>
          <p:nvPr/>
        </p:nvSpPr>
        <p:spPr>
          <a:xfrm>
            <a:off x="8172360" y="2868480"/>
            <a:ext cx="263520" cy="11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MARTPenAnnotation335"/>
          <p:cNvSpPr/>
          <p:nvPr/>
        </p:nvSpPr>
        <p:spPr>
          <a:xfrm>
            <a:off x="8561520" y="2754360"/>
            <a:ext cx="79200" cy="274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MARTPenAnnotation336"/>
          <p:cNvSpPr/>
          <p:nvPr/>
        </p:nvSpPr>
        <p:spPr>
          <a:xfrm>
            <a:off x="8435880" y="2560680"/>
            <a:ext cx="44640" cy="33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MARTPenAnnotation337"/>
          <p:cNvSpPr/>
          <p:nvPr/>
        </p:nvSpPr>
        <p:spPr>
          <a:xfrm>
            <a:off x="8675640" y="2457360"/>
            <a:ext cx="273240" cy="228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MARTPenAnnotation338"/>
          <p:cNvSpPr/>
          <p:nvPr/>
        </p:nvSpPr>
        <p:spPr>
          <a:xfrm>
            <a:off x="8344080" y="2206800"/>
            <a:ext cx="685800" cy="1072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MARTPenAnnotation339"/>
          <p:cNvSpPr/>
          <p:nvPr/>
        </p:nvSpPr>
        <p:spPr>
          <a:xfrm>
            <a:off x="8400960" y="1876320"/>
            <a:ext cx="343080" cy="42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MARTPenAnnotation340"/>
          <p:cNvSpPr/>
          <p:nvPr/>
        </p:nvSpPr>
        <p:spPr>
          <a:xfrm>
            <a:off x="8790120" y="1536840"/>
            <a:ext cx="68040" cy="528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MARTPenAnnotation341"/>
          <p:cNvSpPr/>
          <p:nvPr/>
        </p:nvSpPr>
        <p:spPr>
          <a:xfrm>
            <a:off x="6515280" y="3475080"/>
            <a:ext cx="193320" cy="33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MARTPenAnnotation342"/>
          <p:cNvSpPr/>
          <p:nvPr/>
        </p:nvSpPr>
        <p:spPr>
          <a:xfrm>
            <a:off x="6526080" y="3611520"/>
            <a:ext cx="160560" cy="11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MARTPenAnnotation343"/>
          <p:cNvSpPr/>
          <p:nvPr/>
        </p:nvSpPr>
        <p:spPr>
          <a:xfrm>
            <a:off x="6950160" y="3371760"/>
            <a:ext cx="182520" cy="308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MARTPenAnnotation344"/>
          <p:cNvSpPr/>
          <p:nvPr/>
        </p:nvSpPr>
        <p:spPr>
          <a:xfrm>
            <a:off x="7236000" y="3371760"/>
            <a:ext cx="182520" cy="295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MARTPenAnnotation345"/>
          <p:cNvSpPr/>
          <p:nvPr/>
        </p:nvSpPr>
        <p:spPr>
          <a:xfrm>
            <a:off x="7554960" y="3554280"/>
            <a:ext cx="171360" cy="24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MARTPenAnnotation346"/>
          <p:cNvSpPr/>
          <p:nvPr/>
        </p:nvSpPr>
        <p:spPr>
          <a:xfrm>
            <a:off x="7851600" y="3475080"/>
            <a:ext cx="57240" cy="217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MARTPenAnnotation347"/>
          <p:cNvSpPr/>
          <p:nvPr/>
        </p:nvSpPr>
        <p:spPr>
          <a:xfrm>
            <a:off x="7794720" y="3325680"/>
            <a:ext cx="360" cy="11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MARTPenAnnotation348"/>
          <p:cNvSpPr/>
          <p:nvPr/>
        </p:nvSpPr>
        <p:spPr>
          <a:xfrm>
            <a:off x="8035920" y="3532320"/>
            <a:ext cx="216000" cy="21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MARTPenAnnotation349"/>
          <p:cNvSpPr/>
          <p:nvPr/>
        </p:nvSpPr>
        <p:spPr>
          <a:xfrm>
            <a:off x="7783560" y="3279600"/>
            <a:ext cx="22320" cy="33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MARTPenAnnotation350"/>
          <p:cNvSpPr/>
          <p:nvPr/>
        </p:nvSpPr>
        <p:spPr>
          <a:xfrm>
            <a:off x="8308800" y="3349800"/>
            <a:ext cx="160560" cy="336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MARTPenAnnotation351"/>
          <p:cNvSpPr/>
          <p:nvPr/>
        </p:nvSpPr>
        <p:spPr>
          <a:xfrm>
            <a:off x="8469360" y="3508200"/>
            <a:ext cx="206280" cy="24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MARTPenAnnotation352"/>
          <p:cNvSpPr/>
          <p:nvPr/>
        </p:nvSpPr>
        <p:spPr>
          <a:xfrm>
            <a:off x="8755200" y="3371760"/>
            <a:ext cx="56880" cy="331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MARTPenAnnotation353"/>
          <p:cNvSpPr/>
          <p:nvPr/>
        </p:nvSpPr>
        <p:spPr>
          <a:xfrm>
            <a:off x="8847000" y="3292560"/>
            <a:ext cx="181080" cy="457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MARTPenAnnotation354"/>
          <p:cNvSpPr/>
          <p:nvPr/>
        </p:nvSpPr>
        <p:spPr>
          <a:xfrm>
            <a:off x="6904080" y="3989520"/>
            <a:ext cx="261720" cy="33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MARTPenAnnotation355"/>
          <p:cNvSpPr/>
          <p:nvPr/>
        </p:nvSpPr>
        <p:spPr>
          <a:xfrm>
            <a:off x="6972480" y="4114800"/>
            <a:ext cx="206280" cy="33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MARTPenAnnotation356"/>
          <p:cNvSpPr/>
          <p:nvPr/>
        </p:nvSpPr>
        <p:spPr>
          <a:xfrm>
            <a:off x="7326360" y="3897360"/>
            <a:ext cx="331920" cy="320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MARTPenAnnotation357"/>
          <p:cNvSpPr/>
          <p:nvPr/>
        </p:nvSpPr>
        <p:spPr>
          <a:xfrm>
            <a:off x="7635960" y="3851280"/>
            <a:ext cx="101520" cy="3538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MARTPenAnnotation358"/>
          <p:cNvSpPr/>
          <p:nvPr/>
        </p:nvSpPr>
        <p:spPr>
          <a:xfrm>
            <a:off x="7589880" y="3841920"/>
            <a:ext cx="136440" cy="345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MARTPenAnnotation359"/>
          <p:cNvSpPr/>
          <p:nvPr/>
        </p:nvSpPr>
        <p:spPr>
          <a:xfrm>
            <a:off x="7875720" y="4000680"/>
            <a:ext cx="239760" cy="55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MARTPenAnnotation360"/>
          <p:cNvSpPr/>
          <p:nvPr/>
        </p:nvSpPr>
        <p:spPr>
          <a:xfrm>
            <a:off x="8207280" y="3954600"/>
            <a:ext cx="44640" cy="274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MARTPenAnnotation361"/>
          <p:cNvSpPr/>
          <p:nvPr/>
        </p:nvSpPr>
        <p:spPr>
          <a:xfrm>
            <a:off x="8151840" y="3828960"/>
            <a:ext cx="25200" cy="176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MARTPenAnnotation362"/>
          <p:cNvSpPr/>
          <p:nvPr/>
        </p:nvSpPr>
        <p:spPr>
          <a:xfrm>
            <a:off x="3508200" y="5008680"/>
            <a:ext cx="366840" cy="504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MARTPenAnnotation363"/>
          <p:cNvSpPr/>
          <p:nvPr/>
        </p:nvSpPr>
        <p:spPr>
          <a:xfrm>
            <a:off x="3978360" y="5226120"/>
            <a:ext cx="307800" cy="31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MARTPenAnnotation364"/>
          <p:cNvSpPr/>
          <p:nvPr/>
        </p:nvSpPr>
        <p:spPr>
          <a:xfrm>
            <a:off x="4400640" y="5108400"/>
            <a:ext cx="79200" cy="366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MARTPenAnnotation365"/>
          <p:cNvSpPr/>
          <p:nvPr/>
        </p:nvSpPr>
        <p:spPr>
          <a:xfrm>
            <a:off x="4332240" y="4950000"/>
            <a:ext cx="33480" cy="44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MARTPenAnnotation366"/>
          <p:cNvSpPr/>
          <p:nvPr/>
        </p:nvSpPr>
        <p:spPr>
          <a:xfrm>
            <a:off x="3314880" y="5675400"/>
            <a:ext cx="1589040" cy="74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MARTPenAnnotation367"/>
          <p:cNvSpPr/>
          <p:nvPr/>
        </p:nvSpPr>
        <p:spPr>
          <a:xfrm>
            <a:off x="3314880" y="5784840"/>
            <a:ext cx="398160" cy="581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MARTPenAnnotation368"/>
          <p:cNvSpPr/>
          <p:nvPr/>
        </p:nvSpPr>
        <p:spPr>
          <a:xfrm>
            <a:off x="3840120" y="6022800"/>
            <a:ext cx="411120" cy="57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MARTPenAnnotation369"/>
          <p:cNvSpPr/>
          <p:nvPr/>
        </p:nvSpPr>
        <p:spPr>
          <a:xfrm>
            <a:off x="4057560" y="5875200"/>
            <a:ext cx="46080" cy="457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MARTPenAnnotation370"/>
          <p:cNvSpPr/>
          <p:nvPr/>
        </p:nvSpPr>
        <p:spPr>
          <a:xfrm>
            <a:off x="4514760" y="5943600"/>
            <a:ext cx="46080" cy="388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MARTPenAnnotation371"/>
          <p:cNvSpPr/>
          <p:nvPr/>
        </p:nvSpPr>
        <p:spPr>
          <a:xfrm>
            <a:off x="4503600" y="5807160"/>
            <a:ext cx="22320" cy="31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MARTPenAnnotation372"/>
          <p:cNvSpPr/>
          <p:nvPr/>
        </p:nvSpPr>
        <p:spPr>
          <a:xfrm>
            <a:off x="3063960" y="5794200"/>
            <a:ext cx="204840" cy="855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MARTPenAnnotation373"/>
          <p:cNvSpPr/>
          <p:nvPr/>
        </p:nvSpPr>
        <p:spPr>
          <a:xfrm>
            <a:off x="4915080" y="5715000"/>
            <a:ext cx="203040" cy="765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MARTPenAnnotation374"/>
          <p:cNvSpPr/>
          <p:nvPr/>
        </p:nvSpPr>
        <p:spPr>
          <a:xfrm>
            <a:off x="5143680" y="5737320"/>
            <a:ext cx="182520" cy="730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MARTPenAnnotation375"/>
          <p:cNvSpPr/>
          <p:nvPr/>
        </p:nvSpPr>
        <p:spPr>
          <a:xfrm>
            <a:off x="5315040" y="5840280"/>
            <a:ext cx="285840" cy="514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MARTPenAnnotation376"/>
          <p:cNvSpPr/>
          <p:nvPr/>
        </p:nvSpPr>
        <p:spPr>
          <a:xfrm>
            <a:off x="5680080" y="6068880"/>
            <a:ext cx="217440" cy="34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MARTPenAnnotation377"/>
          <p:cNvSpPr/>
          <p:nvPr/>
        </p:nvSpPr>
        <p:spPr>
          <a:xfrm>
            <a:off x="6000840" y="6022800"/>
            <a:ext cx="21960" cy="293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MARTPenAnnotation378"/>
          <p:cNvSpPr/>
          <p:nvPr/>
        </p:nvSpPr>
        <p:spPr>
          <a:xfrm>
            <a:off x="5943600" y="5840280"/>
            <a:ext cx="1116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MARTPenAnnotation379"/>
          <p:cNvSpPr/>
          <p:nvPr/>
        </p:nvSpPr>
        <p:spPr>
          <a:xfrm>
            <a:off x="6093000" y="5657760"/>
            <a:ext cx="239400" cy="708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MARTPenAnnotation380"/>
          <p:cNvSpPr/>
          <p:nvPr/>
        </p:nvSpPr>
        <p:spPr>
          <a:xfrm>
            <a:off x="4983120" y="4879800"/>
            <a:ext cx="182520" cy="628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MARTPenAnnotation381"/>
          <p:cNvSpPr/>
          <p:nvPr/>
        </p:nvSpPr>
        <p:spPr>
          <a:xfrm>
            <a:off x="5292720" y="4995720"/>
            <a:ext cx="262080" cy="433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MARTPenAnnotation382"/>
          <p:cNvSpPr/>
          <p:nvPr/>
        </p:nvSpPr>
        <p:spPr>
          <a:xfrm>
            <a:off x="5715000" y="5222880"/>
            <a:ext cx="217440" cy="34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MARTPenAnnotation383"/>
          <p:cNvSpPr/>
          <p:nvPr/>
        </p:nvSpPr>
        <p:spPr>
          <a:xfrm>
            <a:off x="6093000" y="5132520"/>
            <a:ext cx="10800" cy="353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MARTPenAnnotation384"/>
          <p:cNvSpPr/>
          <p:nvPr/>
        </p:nvSpPr>
        <p:spPr>
          <a:xfrm>
            <a:off x="6016680" y="4954680"/>
            <a:ext cx="28440" cy="74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MARTPenAnnotation385"/>
          <p:cNvSpPr/>
          <p:nvPr/>
        </p:nvSpPr>
        <p:spPr>
          <a:xfrm>
            <a:off x="6161040" y="4857840"/>
            <a:ext cx="235080" cy="525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MARTPenAnnotation386"/>
          <p:cNvSpPr/>
          <p:nvPr/>
        </p:nvSpPr>
        <p:spPr>
          <a:xfrm>
            <a:off x="3305160" y="4846680"/>
            <a:ext cx="169920" cy="822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MARTPenAnnotation387"/>
          <p:cNvSpPr/>
          <p:nvPr/>
        </p:nvSpPr>
        <p:spPr>
          <a:xfrm>
            <a:off x="4583160" y="4960800"/>
            <a:ext cx="206280" cy="617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MARTPenAnnotation388"/>
          <p:cNvSpPr/>
          <p:nvPr/>
        </p:nvSpPr>
        <p:spPr>
          <a:xfrm>
            <a:off x="6423120" y="5508720"/>
            <a:ext cx="217440" cy="23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MARTPenAnnotation389"/>
          <p:cNvSpPr/>
          <p:nvPr/>
        </p:nvSpPr>
        <p:spPr>
          <a:xfrm>
            <a:off x="6458040" y="5600880"/>
            <a:ext cx="125280" cy="9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MARTPenAnnotation390"/>
          <p:cNvSpPr/>
          <p:nvPr/>
        </p:nvSpPr>
        <p:spPr>
          <a:xfrm>
            <a:off x="6835680" y="4938840"/>
            <a:ext cx="239760" cy="490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MARTPenAnnotation391"/>
          <p:cNvSpPr/>
          <p:nvPr/>
        </p:nvSpPr>
        <p:spPr>
          <a:xfrm>
            <a:off x="7246800" y="5154480"/>
            <a:ext cx="239760" cy="11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MARTPenAnnotation392"/>
          <p:cNvSpPr/>
          <p:nvPr/>
        </p:nvSpPr>
        <p:spPr>
          <a:xfrm>
            <a:off x="7554960" y="4950000"/>
            <a:ext cx="274680" cy="422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MARTPenAnnotation393"/>
          <p:cNvSpPr/>
          <p:nvPr/>
        </p:nvSpPr>
        <p:spPr>
          <a:xfrm>
            <a:off x="7886880" y="5143680"/>
            <a:ext cx="10800" cy="228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MARTPenAnnotation394"/>
          <p:cNvSpPr/>
          <p:nvPr/>
        </p:nvSpPr>
        <p:spPr>
          <a:xfrm>
            <a:off x="7875720" y="4971960"/>
            <a:ext cx="11160" cy="34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MARTPenAnnotation395"/>
          <p:cNvSpPr/>
          <p:nvPr/>
        </p:nvSpPr>
        <p:spPr>
          <a:xfrm>
            <a:off x="8035920" y="5189400"/>
            <a:ext cx="343080" cy="9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MARTPenAnnotation396"/>
          <p:cNvSpPr/>
          <p:nvPr/>
        </p:nvSpPr>
        <p:spPr>
          <a:xfrm>
            <a:off x="8194680" y="5097600"/>
            <a:ext cx="34920" cy="320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MARTPenAnnotation397"/>
          <p:cNvSpPr/>
          <p:nvPr/>
        </p:nvSpPr>
        <p:spPr>
          <a:xfrm>
            <a:off x="8389800" y="5132520"/>
            <a:ext cx="22320" cy="249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MARTPenAnnotation398"/>
          <p:cNvSpPr/>
          <p:nvPr/>
        </p:nvSpPr>
        <p:spPr>
          <a:xfrm>
            <a:off x="8354880" y="4881600"/>
            <a:ext cx="24120" cy="68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MARTPenAnnotation399"/>
          <p:cNvSpPr/>
          <p:nvPr/>
        </p:nvSpPr>
        <p:spPr>
          <a:xfrm>
            <a:off x="8504280" y="4846680"/>
            <a:ext cx="274680" cy="171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MARTPenAnnotation400"/>
          <p:cNvSpPr/>
          <p:nvPr/>
        </p:nvSpPr>
        <p:spPr>
          <a:xfrm>
            <a:off x="6721560" y="5554800"/>
            <a:ext cx="1927080" cy="52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MARTPenAnnotation401"/>
          <p:cNvSpPr/>
          <p:nvPr/>
        </p:nvSpPr>
        <p:spPr>
          <a:xfrm>
            <a:off x="6767640" y="5738760"/>
            <a:ext cx="296640" cy="6015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MARTPenAnnotation402"/>
          <p:cNvSpPr/>
          <p:nvPr/>
        </p:nvSpPr>
        <p:spPr>
          <a:xfrm>
            <a:off x="7236000" y="6080040"/>
            <a:ext cx="353880" cy="12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MARTPenAnnotation403"/>
          <p:cNvSpPr/>
          <p:nvPr/>
        </p:nvSpPr>
        <p:spPr>
          <a:xfrm>
            <a:off x="7750080" y="5932440"/>
            <a:ext cx="22320" cy="354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MARTPenAnnotation404"/>
          <p:cNvSpPr/>
          <p:nvPr/>
        </p:nvSpPr>
        <p:spPr>
          <a:xfrm>
            <a:off x="7704000" y="5738760"/>
            <a:ext cx="22320" cy="39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MARTPenAnnotation405"/>
          <p:cNvSpPr/>
          <p:nvPr/>
        </p:nvSpPr>
        <p:spPr>
          <a:xfrm>
            <a:off x="7818480" y="5692680"/>
            <a:ext cx="297000" cy="2160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MARTPenAnnotation406"/>
          <p:cNvSpPr/>
          <p:nvPr/>
        </p:nvSpPr>
        <p:spPr>
          <a:xfrm>
            <a:off x="7589880" y="5600880"/>
            <a:ext cx="593640" cy="868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MARTPenAnnotation407"/>
          <p:cNvSpPr/>
          <p:nvPr/>
        </p:nvSpPr>
        <p:spPr>
          <a:xfrm>
            <a:off x="8286840" y="4708440"/>
            <a:ext cx="501480" cy="812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MARTPenAnnotation408"/>
          <p:cNvSpPr/>
          <p:nvPr/>
        </p:nvSpPr>
        <p:spPr>
          <a:xfrm>
            <a:off x="103320" y="5418000"/>
            <a:ext cx="318960" cy="2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MARTPenAnnotation409"/>
          <p:cNvSpPr/>
          <p:nvPr/>
        </p:nvSpPr>
        <p:spPr>
          <a:xfrm>
            <a:off x="125280" y="5521320"/>
            <a:ext cx="309600" cy="33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MARTPenAnnotation410"/>
          <p:cNvSpPr/>
          <p:nvPr/>
        </p:nvSpPr>
        <p:spPr>
          <a:xfrm>
            <a:off x="582480" y="5040360"/>
            <a:ext cx="297000" cy="331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MARTPenAnnotation411"/>
          <p:cNvSpPr/>
          <p:nvPr/>
        </p:nvSpPr>
        <p:spPr>
          <a:xfrm>
            <a:off x="993600" y="5222880"/>
            <a:ext cx="298800" cy="23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MARTPenAnnotation412"/>
          <p:cNvSpPr/>
          <p:nvPr/>
        </p:nvSpPr>
        <p:spPr>
          <a:xfrm>
            <a:off x="1314360" y="5064120"/>
            <a:ext cx="331920" cy="376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MARTPenAnnotation413"/>
          <p:cNvSpPr/>
          <p:nvPr/>
        </p:nvSpPr>
        <p:spPr>
          <a:xfrm>
            <a:off x="1736640" y="5222880"/>
            <a:ext cx="69840" cy="263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MARTPenAnnotation414"/>
          <p:cNvSpPr/>
          <p:nvPr/>
        </p:nvSpPr>
        <p:spPr>
          <a:xfrm>
            <a:off x="1725480" y="5086440"/>
            <a:ext cx="4608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MARTPenAnnotation415"/>
          <p:cNvSpPr/>
          <p:nvPr/>
        </p:nvSpPr>
        <p:spPr>
          <a:xfrm>
            <a:off x="582480" y="5554800"/>
            <a:ext cx="1382760" cy="137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MARTPenAnnotation416"/>
          <p:cNvSpPr/>
          <p:nvPr/>
        </p:nvSpPr>
        <p:spPr>
          <a:xfrm>
            <a:off x="925560" y="5703840"/>
            <a:ext cx="23760" cy="376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MARTPenAnnotation417"/>
          <p:cNvSpPr/>
          <p:nvPr/>
        </p:nvSpPr>
        <p:spPr>
          <a:xfrm>
            <a:off x="1050840" y="5738760"/>
            <a:ext cx="274680" cy="328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MARTPenAnnotation418"/>
          <p:cNvSpPr/>
          <p:nvPr/>
        </p:nvSpPr>
        <p:spPr>
          <a:xfrm>
            <a:off x="193680" y="6172200"/>
            <a:ext cx="22860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MARTPenAnnotation419"/>
          <p:cNvSpPr/>
          <p:nvPr/>
        </p:nvSpPr>
        <p:spPr>
          <a:xfrm>
            <a:off x="136440" y="6251400"/>
            <a:ext cx="263520" cy="24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MARTPenAnnotation420"/>
          <p:cNvSpPr/>
          <p:nvPr/>
        </p:nvSpPr>
        <p:spPr>
          <a:xfrm>
            <a:off x="777960" y="6291360"/>
            <a:ext cx="272880" cy="17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MARTPenAnnotation421"/>
          <p:cNvSpPr/>
          <p:nvPr/>
        </p:nvSpPr>
        <p:spPr>
          <a:xfrm>
            <a:off x="1085760" y="6275520"/>
            <a:ext cx="22320" cy="160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MARTPenAnnotation422"/>
          <p:cNvSpPr/>
          <p:nvPr/>
        </p:nvSpPr>
        <p:spPr>
          <a:xfrm>
            <a:off x="1028880" y="6151680"/>
            <a:ext cx="61560" cy="9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MARTPenAnnotation423"/>
          <p:cNvSpPr/>
          <p:nvPr/>
        </p:nvSpPr>
        <p:spPr>
          <a:xfrm>
            <a:off x="399960" y="6458040"/>
            <a:ext cx="960480" cy="79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MARTPenAnnotation424"/>
          <p:cNvSpPr/>
          <p:nvPr/>
        </p:nvSpPr>
        <p:spPr>
          <a:xfrm>
            <a:off x="606600" y="6504120"/>
            <a:ext cx="444240" cy="274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MARTPenAnnotation425"/>
          <p:cNvSpPr/>
          <p:nvPr/>
        </p:nvSpPr>
        <p:spPr>
          <a:xfrm>
            <a:off x="399960" y="6080040"/>
            <a:ext cx="182520" cy="252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MARTPenAnnotation426"/>
          <p:cNvSpPr/>
          <p:nvPr/>
        </p:nvSpPr>
        <p:spPr>
          <a:xfrm>
            <a:off x="434880" y="6354720"/>
            <a:ext cx="287280" cy="46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MARTPenAnnotation427"/>
          <p:cNvSpPr/>
          <p:nvPr/>
        </p:nvSpPr>
        <p:spPr>
          <a:xfrm>
            <a:off x="538200" y="6093000"/>
            <a:ext cx="22320" cy="250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SMARTPenAnnotation218"/>
          <p:cNvSpPr/>
          <p:nvPr/>
        </p:nvSpPr>
        <p:spPr>
          <a:xfrm>
            <a:off x="1417680" y="1258920"/>
            <a:ext cx="457200" cy="374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MARTPenAnnotation219"/>
          <p:cNvSpPr/>
          <p:nvPr/>
        </p:nvSpPr>
        <p:spPr>
          <a:xfrm>
            <a:off x="1703520" y="1292400"/>
            <a:ext cx="68040" cy="758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MARTPenAnnotation220"/>
          <p:cNvSpPr/>
          <p:nvPr/>
        </p:nvSpPr>
        <p:spPr>
          <a:xfrm>
            <a:off x="1703520" y="2022480"/>
            <a:ext cx="2880" cy="360"/>
          </a:xfrm>
          <a:prstGeom prst="pie">
            <a:avLst/>
          </a:prstGeom>
          <a:solidFill>
            <a:srgbClr val="ff388c"/>
          </a:solidFill>
          <a:ln w="38160">
            <a:solidFill>
              <a:srgbClr val="009d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MARTPenAnnotation221"/>
          <p:cNvSpPr/>
          <p:nvPr/>
        </p:nvSpPr>
        <p:spPr>
          <a:xfrm>
            <a:off x="1908000" y="1668600"/>
            <a:ext cx="355680" cy="810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MARTPenAnnotation222"/>
          <p:cNvSpPr/>
          <p:nvPr/>
        </p:nvSpPr>
        <p:spPr>
          <a:xfrm>
            <a:off x="2263680" y="1668600"/>
            <a:ext cx="3240" cy="360"/>
          </a:xfrm>
          <a:prstGeom prst="pie">
            <a:avLst/>
          </a:prstGeom>
          <a:solidFill>
            <a:srgbClr val="ff388c"/>
          </a:solidFill>
          <a:ln w="38160">
            <a:solidFill>
              <a:srgbClr val="009d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MARTPenAnnotation223"/>
          <p:cNvSpPr/>
          <p:nvPr/>
        </p:nvSpPr>
        <p:spPr>
          <a:xfrm>
            <a:off x="2022480" y="1589040"/>
            <a:ext cx="69840" cy="441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MARTPenAnnotation224"/>
          <p:cNvSpPr/>
          <p:nvPr/>
        </p:nvSpPr>
        <p:spPr>
          <a:xfrm>
            <a:off x="2344680" y="1463760"/>
            <a:ext cx="444600" cy="536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MARTPenAnnotation225"/>
          <p:cNvSpPr/>
          <p:nvPr/>
        </p:nvSpPr>
        <p:spPr>
          <a:xfrm>
            <a:off x="2811600" y="1703520"/>
            <a:ext cx="23760" cy="210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MARTPenAnnotation226"/>
          <p:cNvSpPr/>
          <p:nvPr/>
        </p:nvSpPr>
        <p:spPr>
          <a:xfrm>
            <a:off x="2800440" y="1501920"/>
            <a:ext cx="33120" cy="19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MARTPenAnnotation227"/>
          <p:cNvSpPr/>
          <p:nvPr/>
        </p:nvSpPr>
        <p:spPr>
          <a:xfrm>
            <a:off x="1006560" y="2228760"/>
            <a:ext cx="2262240" cy="193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MARTPenAnnotation228"/>
          <p:cNvSpPr/>
          <p:nvPr/>
        </p:nvSpPr>
        <p:spPr>
          <a:xfrm>
            <a:off x="1406520" y="2732040"/>
            <a:ext cx="22320" cy="343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MARTPenAnnotation229"/>
          <p:cNvSpPr/>
          <p:nvPr/>
        </p:nvSpPr>
        <p:spPr>
          <a:xfrm>
            <a:off x="1325520" y="2571840"/>
            <a:ext cx="68400" cy="68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MARTPenAnnotation230"/>
          <p:cNvSpPr/>
          <p:nvPr/>
        </p:nvSpPr>
        <p:spPr>
          <a:xfrm>
            <a:off x="1635120" y="2811600"/>
            <a:ext cx="444600" cy="46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MARTPenAnnotation231"/>
          <p:cNvSpPr/>
          <p:nvPr/>
        </p:nvSpPr>
        <p:spPr>
          <a:xfrm>
            <a:off x="1874880" y="2720880"/>
            <a:ext cx="11160" cy="352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MARTPenAnnotation232"/>
          <p:cNvSpPr/>
          <p:nvPr/>
        </p:nvSpPr>
        <p:spPr>
          <a:xfrm>
            <a:off x="2332080" y="2525760"/>
            <a:ext cx="41400" cy="514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MARTPenAnnotation233"/>
          <p:cNvSpPr/>
          <p:nvPr/>
        </p:nvSpPr>
        <p:spPr>
          <a:xfrm>
            <a:off x="3279600" y="2367000"/>
            <a:ext cx="285840" cy="708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MARTPenAnnotation234"/>
          <p:cNvSpPr/>
          <p:nvPr/>
        </p:nvSpPr>
        <p:spPr>
          <a:xfrm>
            <a:off x="3600360" y="2708280"/>
            <a:ext cx="92160" cy="303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MARTPenAnnotation235"/>
          <p:cNvSpPr/>
          <p:nvPr/>
        </p:nvSpPr>
        <p:spPr>
          <a:xfrm>
            <a:off x="3554280" y="2525760"/>
            <a:ext cx="57240" cy="46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MARTPenAnnotation236"/>
          <p:cNvSpPr/>
          <p:nvPr/>
        </p:nvSpPr>
        <p:spPr>
          <a:xfrm>
            <a:off x="3844800" y="2800440"/>
            <a:ext cx="362160" cy="66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MARTPenAnnotation237"/>
          <p:cNvSpPr/>
          <p:nvPr/>
        </p:nvSpPr>
        <p:spPr>
          <a:xfrm>
            <a:off x="4264200" y="2571840"/>
            <a:ext cx="90360" cy="468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MARTPenAnnotation238"/>
          <p:cNvSpPr/>
          <p:nvPr/>
        </p:nvSpPr>
        <p:spPr>
          <a:xfrm>
            <a:off x="4332240" y="2446200"/>
            <a:ext cx="363600" cy="685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MARTPenAnnotation239"/>
          <p:cNvSpPr/>
          <p:nvPr/>
        </p:nvSpPr>
        <p:spPr>
          <a:xfrm>
            <a:off x="3384720" y="1382760"/>
            <a:ext cx="237960" cy="811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MARTPenAnnotation240"/>
          <p:cNvSpPr/>
          <p:nvPr/>
        </p:nvSpPr>
        <p:spPr>
          <a:xfrm>
            <a:off x="3692520" y="1622520"/>
            <a:ext cx="68400" cy="538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MARTPenAnnotation241"/>
          <p:cNvSpPr/>
          <p:nvPr/>
        </p:nvSpPr>
        <p:spPr>
          <a:xfrm>
            <a:off x="3660840" y="1457280"/>
            <a:ext cx="36360" cy="28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MARTPenAnnotation242"/>
          <p:cNvSpPr/>
          <p:nvPr/>
        </p:nvSpPr>
        <p:spPr>
          <a:xfrm>
            <a:off x="3897360" y="1897200"/>
            <a:ext cx="25236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MARTPenAnnotation243"/>
          <p:cNvSpPr/>
          <p:nvPr/>
        </p:nvSpPr>
        <p:spPr>
          <a:xfrm>
            <a:off x="4275000" y="1611360"/>
            <a:ext cx="79560" cy="582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MARTPenAnnotation244"/>
          <p:cNvSpPr/>
          <p:nvPr/>
        </p:nvSpPr>
        <p:spPr>
          <a:xfrm>
            <a:off x="4389480" y="1521000"/>
            <a:ext cx="328680" cy="672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MARTPenAnnotation245"/>
          <p:cNvSpPr/>
          <p:nvPr/>
        </p:nvSpPr>
        <p:spPr>
          <a:xfrm>
            <a:off x="4892760" y="2208240"/>
            <a:ext cx="376200" cy="42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MARTPenAnnotation246"/>
          <p:cNvSpPr/>
          <p:nvPr/>
        </p:nvSpPr>
        <p:spPr>
          <a:xfrm>
            <a:off x="4925880" y="2354400"/>
            <a:ext cx="343080" cy="102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MARTPenAnnotation247"/>
          <p:cNvSpPr/>
          <p:nvPr/>
        </p:nvSpPr>
        <p:spPr>
          <a:xfrm>
            <a:off x="5407200" y="1555920"/>
            <a:ext cx="330120" cy="363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MARTPenAnnotation248"/>
          <p:cNvSpPr/>
          <p:nvPr/>
        </p:nvSpPr>
        <p:spPr>
          <a:xfrm>
            <a:off x="5668920" y="1521000"/>
            <a:ext cx="138240" cy="779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MARTPenAnnotation249"/>
          <p:cNvSpPr/>
          <p:nvPr/>
        </p:nvSpPr>
        <p:spPr>
          <a:xfrm>
            <a:off x="5897520" y="1897200"/>
            <a:ext cx="103320" cy="3776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MARTPenAnnotation250"/>
          <p:cNvSpPr/>
          <p:nvPr/>
        </p:nvSpPr>
        <p:spPr>
          <a:xfrm>
            <a:off x="5807160" y="1647720"/>
            <a:ext cx="33120" cy="446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MARTPenAnnotation251"/>
          <p:cNvSpPr/>
          <p:nvPr/>
        </p:nvSpPr>
        <p:spPr>
          <a:xfrm>
            <a:off x="6058080" y="2000160"/>
            <a:ext cx="271440" cy="114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MARTPenAnnotation252"/>
          <p:cNvSpPr/>
          <p:nvPr/>
        </p:nvSpPr>
        <p:spPr>
          <a:xfrm>
            <a:off x="6389640" y="1611360"/>
            <a:ext cx="297000" cy="352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MARTPenAnnotation253"/>
          <p:cNvSpPr/>
          <p:nvPr/>
        </p:nvSpPr>
        <p:spPr>
          <a:xfrm>
            <a:off x="6594480" y="1589040"/>
            <a:ext cx="69840" cy="7095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MARTPenAnnotation254"/>
          <p:cNvSpPr/>
          <p:nvPr/>
        </p:nvSpPr>
        <p:spPr>
          <a:xfrm>
            <a:off x="6858000" y="1920960"/>
            <a:ext cx="297000" cy="44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MARTPenAnnotation255"/>
          <p:cNvSpPr/>
          <p:nvPr/>
        </p:nvSpPr>
        <p:spPr>
          <a:xfrm>
            <a:off x="6950160" y="1839960"/>
            <a:ext cx="101520" cy="4395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MARTPenAnnotation256"/>
          <p:cNvSpPr/>
          <p:nvPr/>
        </p:nvSpPr>
        <p:spPr>
          <a:xfrm>
            <a:off x="7165800" y="1692360"/>
            <a:ext cx="457200" cy="514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MARTPenAnnotation257"/>
          <p:cNvSpPr/>
          <p:nvPr/>
        </p:nvSpPr>
        <p:spPr>
          <a:xfrm>
            <a:off x="7554960" y="1897200"/>
            <a:ext cx="81000" cy="311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MARTPenAnnotation258"/>
          <p:cNvSpPr/>
          <p:nvPr/>
        </p:nvSpPr>
        <p:spPr>
          <a:xfrm>
            <a:off x="7418520" y="1631880"/>
            <a:ext cx="33120" cy="255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MARTPenAnnotation259"/>
          <p:cNvSpPr/>
          <p:nvPr/>
        </p:nvSpPr>
        <p:spPr>
          <a:xfrm>
            <a:off x="7612200" y="1589040"/>
            <a:ext cx="274680" cy="204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MARTPenAnnotation260"/>
          <p:cNvSpPr/>
          <p:nvPr/>
        </p:nvSpPr>
        <p:spPr>
          <a:xfrm>
            <a:off x="7966080" y="1954080"/>
            <a:ext cx="263520" cy="57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MARTPenAnnotation261"/>
          <p:cNvSpPr/>
          <p:nvPr/>
        </p:nvSpPr>
        <p:spPr>
          <a:xfrm>
            <a:off x="8242200" y="1668600"/>
            <a:ext cx="319320" cy="514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MARTPenAnnotation262"/>
          <p:cNvSpPr/>
          <p:nvPr/>
        </p:nvSpPr>
        <p:spPr>
          <a:xfrm>
            <a:off x="8594640" y="1932120"/>
            <a:ext cx="46080" cy="285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MARTPenAnnotation263"/>
          <p:cNvSpPr/>
          <p:nvPr/>
        </p:nvSpPr>
        <p:spPr>
          <a:xfrm>
            <a:off x="8640720" y="1692360"/>
            <a:ext cx="11160" cy="11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MARTPenAnnotation264"/>
          <p:cNvSpPr/>
          <p:nvPr/>
        </p:nvSpPr>
        <p:spPr>
          <a:xfrm>
            <a:off x="5635800" y="2481120"/>
            <a:ext cx="3097080" cy="147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MARTPenAnnotation265"/>
          <p:cNvSpPr/>
          <p:nvPr/>
        </p:nvSpPr>
        <p:spPr>
          <a:xfrm>
            <a:off x="6332400" y="2824200"/>
            <a:ext cx="103320" cy="398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MARTPenAnnotation266"/>
          <p:cNvSpPr/>
          <p:nvPr/>
        </p:nvSpPr>
        <p:spPr>
          <a:xfrm>
            <a:off x="6183360" y="2722680"/>
            <a:ext cx="33120" cy="42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MARTPenAnnotation267"/>
          <p:cNvSpPr/>
          <p:nvPr/>
        </p:nvSpPr>
        <p:spPr>
          <a:xfrm>
            <a:off x="6458040" y="2697120"/>
            <a:ext cx="307800" cy="217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MARTPenAnnotation268"/>
          <p:cNvSpPr/>
          <p:nvPr/>
        </p:nvSpPr>
        <p:spPr>
          <a:xfrm>
            <a:off x="6778800" y="3040200"/>
            <a:ext cx="330120" cy="44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MARTPenAnnotation269"/>
          <p:cNvSpPr/>
          <p:nvPr/>
        </p:nvSpPr>
        <p:spPr>
          <a:xfrm>
            <a:off x="7246800" y="2685960"/>
            <a:ext cx="125640" cy="617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MARTPenAnnotation270"/>
          <p:cNvSpPr/>
          <p:nvPr/>
        </p:nvSpPr>
        <p:spPr>
          <a:xfrm>
            <a:off x="5851440" y="2573280"/>
            <a:ext cx="978120" cy="924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MARTPenAnnotation271"/>
          <p:cNvSpPr/>
          <p:nvPr/>
        </p:nvSpPr>
        <p:spPr>
          <a:xfrm>
            <a:off x="7350120" y="1279440"/>
            <a:ext cx="622440" cy="1085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MARTPenAnnotation272"/>
          <p:cNvSpPr/>
          <p:nvPr/>
        </p:nvSpPr>
        <p:spPr>
          <a:xfrm>
            <a:off x="720720" y="4103640"/>
            <a:ext cx="387360" cy="2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MARTPenAnnotation273"/>
          <p:cNvSpPr/>
          <p:nvPr/>
        </p:nvSpPr>
        <p:spPr>
          <a:xfrm>
            <a:off x="708120" y="4229280"/>
            <a:ext cx="412560" cy="21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MARTPenAnnotation274"/>
          <p:cNvSpPr/>
          <p:nvPr/>
        </p:nvSpPr>
        <p:spPr>
          <a:xfrm>
            <a:off x="1246320" y="3819600"/>
            <a:ext cx="514080" cy="608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MARTPenAnnotation275"/>
          <p:cNvSpPr/>
          <p:nvPr/>
        </p:nvSpPr>
        <p:spPr>
          <a:xfrm>
            <a:off x="1851120" y="4079880"/>
            <a:ext cx="12600" cy="303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MARTPenAnnotation276"/>
          <p:cNvSpPr/>
          <p:nvPr/>
        </p:nvSpPr>
        <p:spPr>
          <a:xfrm>
            <a:off x="1736640" y="3854520"/>
            <a:ext cx="73080" cy="54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MARTPenAnnotation277"/>
          <p:cNvSpPr/>
          <p:nvPr/>
        </p:nvSpPr>
        <p:spPr>
          <a:xfrm>
            <a:off x="2068560" y="4160880"/>
            <a:ext cx="17136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MARTPenAnnotation278"/>
          <p:cNvSpPr/>
          <p:nvPr/>
        </p:nvSpPr>
        <p:spPr>
          <a:xfrm>
            <a:off x="2389320" y="3863880"/>
            <a:ext cx="250560" cy="250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MARTPenAnnotation279"/>
          <p:cNvSpPr/>
          <p:nvPr/>
        </p:nvSpPr>
        <p:spPr>
          <a:xfrm>
            <a:off x="2560680" y="3851280"/>
            <a:ext cx="46080" cy="663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MARTPenAnnotation280"/>
          <p:cNvSpPr/>
          <p:nvPr/>
        </p:nvSpPr>
        <p:spPr>
          <a:xfrm>
            <a:off x="2822400" y="4183200"/>
            <a:ext cx="343080" cy="23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MARTPenAnnotation281"/>
          <p:cNvSpPr/>
          <p:nvPr/>
        </p:nvSpPr>
        <p:spPr>
          <a:xfrm>
            <a:off x="2971800" y="4079880"/>
            <a:ext cx="20520" cy="371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MARTPenAnnotation282"/>
          <p:cNvSpPr/>
          <p:nvPr/>
        </p:nvSpPr>
        <p:spPr>
          <a:xfrm>
            <a:off x="3222720" y="3965400"/>
            <a:ext cx="388800" cy="424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MARTPenAnnotation283"/>
          <p:cNvSpPr/>
          <p:nvPr/>
        </p:nvSpPr>
        <p:spPr>
          <a:xfrm>
            <a:off x="3683160" y="3886200"/>
            <a:ext cx="214200" cy="639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MARTPenAnnotation284"/>
          <p:cNvSpPr/>
          <p:nvPr/>
        </p:nvSpPr>
        <p:spPr>
          <a:xfrm>
            <a:off x="3851280" y="4218120"/>
            <a:ext cx="195120" cy="33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MARTPenAnnotation285"/>
          <p:cNvSpPr/>
          <p:nvPr/>
        </p:nvSpPr>
        <p:spPr>
          <a:xfrm>
            <a:off x="4173480" y="4022640"/>
            <a:ext cx="9720" cy="300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MARTPenAnnotation286"/>
          <p:cNvSpPr/>
          <p:nvPr/>
        </p:nvSpPr>
        <p:spPr>
          <a:xfrm>
            <a:off x="4229280" y="3932280"/>
            <a:ext cx="250560" cy="582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MARTPenAnnotation287"/>
          <p:cNvSpPr/>
          <p:nvPr/>
        </p:nvSpPr>
        <p:spPr>
          <a:xfrm>
            <a:off x="1235160" y="4629240"/>
            <a:ext cx="3633840" cy="171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MARTPenAnnotation288"/>
          <p:cNvSpPr/>
          <p:nvPr/>
        </p:nvSpPr>
        <p:spPr>
          <a:xfrm>
            <a:off x="1954080" y="5029200"/>
            <a:ext cx="37800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MARTPenAnnotation289"/>
          <p:cNvSpPr/>
          <p:nvPr/>
        </p:nvSpPr>
        <p:spPr>
          <a:xfrm>
            <a:off x="2527200" y="4778280"/>
            <a:ext cx="20880" cy="478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MARTPenAnnotation290"/>
          <p:cNvSpPr/>
          <p:nvPr/>
        </p:nvSpPr>
        <p:spPr>
          <a:xfrm>
            <a:off x="2754360" y="5051520"/>
            <a:ext cx="342720" cy="23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MARTPenAnnotation291"/>
          <p:cNvSpPr/>
          <p:nvPr/>
        </p:nvSpPr>
        <p:spPr>
          <a:xfrm>
            <a:off x="3201840" y="4879800"/>
            <a:ext cx="9720" cy="378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MARTPenAnnotation292"/>
          <p:cNvSpPr/>
          <p:nvPr/>
        </p:nvSpPr>
        <p:spPr>
          <a:xfrm>
            <a:off x="4983120" y="4697280"/>
            <a:ext cx="27468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MARTPenAnnotation293"/>
          <p:cNvSpPr/>
          <p:nvPr/>
        </p:nvSpPr>
        <p:spPr>
          <a:xfrm>
            <a:off x="5064120" y="4800600"/>
            <a:ext cx="250920" cy="20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MARTPenAnnotation294"/>
          <p:cNvSpPr/>
          <p:nvPr/>
        </p:nvSpPr>
        <p:spPr>
          <a:xfrm>
            <a:off x="5797440" y="4103640"/>
            <a:ext cx="408240" cy="596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MARTPenAnnotation295"/>
          <p:cNvSpPr/>
          <p:nvPr/>
        </p:nvSpPr>
        <p:spPr>
          <a:xfrm>
            <a:off x="6275520" y="4332240"/>
            <a:ext cx="79200" cy="297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MARTPenAnnotation296"/>
          <p:cNvSpPr/>
          <p:nvPr/>
        </p:nvSpPr>
        <p:spPr>
          <a:xfrm>
            <a:off x="6264360" y="4092480"/>
            <a:ext cx="50760" cy="44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MARTPenAnnotation297"/>
          <p:cNvSpPr/>
          <p:nvPr/>
        </p:nvSpPr>
        <p:spPr>
          <a:xfrm>
            <a:off x="6537240" y="4468680"/>
            <a:ext cx="25236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MARTPenAnnotation298"/>
          <p:cNvSpPr/>
          <p:nvPr/>
        </p:nvSpPr>
        <p:spPr>
          <a:xfrm>
            <a:off x="6904080" y="4160880"/>
            <a:ext cx="306360" cy="501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MARTPenAnnotation299"/>
          <p:cNvSpPr/>
          <p:nvPr/>
        </p:nvSpPr>
        <p:spPr>
          <a:xfrm>
            <a:off x="5715000" y="4835520"/>
            <a:ext cx="164628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MARTPenAnnotation300"/>
          <p:cNvSpPr/>
          <p:nvPr/>
        </p:nvSpPr>
        <p:spPr>
          <a:xfrm>
            <a:off x="5943600" y="5235480"/>
            <a:ext cx="263520" cy="2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MARTPenAnnotation301"/>
          <p:cNvSpPr/>
          <p:nvPr/>
        </p:nvSpPr>
        <p:spPr>
          <a:xfrm>
            <a:off x="6251400" y="5041800"/>
            <a:ext cx="400320" cy="432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MARTPenAnnotation302"/>
          <p:cNvSpPr/>
          <p:nvPr/>
        </p:nvSpPr>
        <p:spPr>
          <a:xfrm>
            <a:off x="7440480" y="4732200"/>
            <a:ext cx="252720" cy="33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MARTPenAnnotation303"/>
          <p:cNvSpPr/>
          <p:nvPr/>
        </p:nvSpPr>
        <p:spPr>
          <a:xfrm>
            <a:off x="7407360" y="4903920"/>
            <a:ext cx="239760" cy="33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MARTPenAnnotation304"/>
          <p:cNvSpPr/>
          <p:nvPr/>
        </p:nvSpPr>
        <p:spPr>
          <a:xfrm>
            <a:off x="8023320" y="4365720"/>
            <a:ext cx="56880" cy="331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MARTPenAnnotation305"/>
          <p:cNvSpPr/>
          <p:nvPr/>
        </p:nvSpPr>
        <p:spPr>
          <a:xfrm>
            <a:off x="7954920" y="4105440"/>
            <a:ext cx="46080" cy="77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MARTPenAnnotation306"/>
          <p:cNvSpPr/>
          <p:nvPr/>
        </p:nvSpPr>
        <p:spPr>
          <a:xfrm>
            <a:off x="8194680" y="4400640"/>
            <a:ext cx="320760" cy="52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MARTPenAnnotation307"/>
          <p:cNvSpPr/>
          <p:nvPr/>
        </p:nvSpPr>
        <p:spPr>
          <a:xfrm>
            <a:off x="7680240" y="4492800"/>
            <a:ext cx="263520" cy="21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MARTPenAnnotation308"/>
          <p:cNvSpPr/>
          <p:nvPr/>
        </p:nvSpPr>
        <p:spPr>
          <a:xfrm>
            <a:off x="8265960" y="4321080"/>
            <a:ext cx="88920" cy="352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MARTPenAnnotation309"/>
          <p:cNvSpPr/>
          <p:nvPr/>
        </p:nvSpPr>
        <p:spPr>
          <a:xfrm>
            <a:off x="8550360" y="4160880"/>
            <a:ext cx="296640" cy="477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Rectangle 2" descr=""/>
          <p:cNvPicPr/>
          <p:nvPr/>
        </p:nvPicPr>
        <p:blipFill>
          <a:blip r:embed="rId1"/>
          <a:stretch/>
        </p:blipFill>
        <p:spPr>
          <a:xfrm>
            <a:off x="1725480" y="268200"/>
            <a:ext cx="5693040" cy="1494000"/>
          </a:xfrm>
          <a:prstGeom prst="rect">
            <a:avLst/>
          </a:prstGeom>
          <a:ln w="0">
            <a:noFill/>
          </a:ln>
        </p:spPr>
      </p:pic>
      <p:pic>
        <p:nvPicPr>
          <p:cNvPr id="576" name="Rectangle 3" descr=""/>
          <p:cNvPicPr/>
          <p:nvPr/>
        </p:nvPicPr>
        <p:blipFill>
          <a:blip r:embed="rId2"/>
          <a:stretch/>
        </p:blipFill>
        <p:spPr>
          <a:xfrm>
            <a:off x="1981080" y="1920960"/>
            <a:ext cx="5121360" cy="4029120"/>
          </a:xfrm>
          <a:prstGeom prst="rect">
            <a:avLst/>
          </a:prstGeom>
          <a:ln w="0">
            <a:noFill/>
          </a:ln>
        </p:spPr>
      </p:pic>
      <p:sp>
        <p:nvSpPr>
          <p:cNvPr id="577" name="SMARTPenAnnotation187"/>
          <p:cNvSpPr/>
          <p:nvPr/>
        </p:nvSpPr>
        <p:spPr>
          <a:xfrm>
            <a:off x="5372280" y="4092480"/>
            <a:ext cx="193320" cy="228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MARTPenAnnotation188"/>
          <p:cNvSpPr/>
          <p:nvPr/>
        </p:nvSpPr>
        <p:spPr>
          <a:xfrm>
            <a:off x="5532480" y="3497400"/>
            <a:ext cx="754200" cy="628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MARTPenAnnotation189"/>
          <p:cNvSpPr/>
          <p:nvPr/>
        </p:nvSpPr>
        <p:spPr>
          <a:xfrm>
            <a:off x="6173640" y="3235320"/>
            <a:ext cx="144720" cy="227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MARTPenAnnotation190"/>
          <p:cNvSpPr/>
          <p:nvPr/>
        </p:nvSpPr>
        <p:spPr>
          <a:xfrm>
            <a:off x="6264360" y="2982960"/>
            <a:ext cx="318960" cy="330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MARTPenAnnotation191"/>
          <p:cNvSpPr/>
          <p:nvPr/>
        </p:nvSpPr>
        <p:spPr>
          <a:xfrm>
            <a:off x="6607080" y="2879640"/>
            <a:ext cx="336600" cy="262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MARTPenAnnotation192"/>
          <p:cNvSpPr/>
          <p:nvPr/>
        </p:nvSpPr>
        <p:spPr>
          <a:xfrm>
            <a:off x="6892920" y="2479680"/>
            <a:ext cx="158760" cy="366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MARTPenAnnotation193"/>
          <p:cNvSpPr/>
          <p:nvPr/>
        </p:nvSpPr>
        <p:spPr>
          <a:xfrm>
            <a:off x="7086600" y="3040200"/>
            <a:ext cx="3240" cy="360"/>
          </a:xfrm>
          <a:prstGeom prst="pie">
            <a:avLst/>
          </a:prstGeom>
          <a:solidFill>
            <a:srgbClr val="ff388c"/>
          </a:solidFill>
          <a:ln w="381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MARTPenAnnotation194"/>
          <p:cNvSpPr/>
          <p:nvPr/>
        </p:nvSpPr>
        <p:spPr>
          <a:xfrm>
            <a:off x="6458040" y="3222720"/>
            <a:ext cx="1096920" cy="492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MARTPenAnnotation195"/>
          <p:cNvSpPr/>
          <p:nvPr/>
        </p:nvSpPr>
        <p:spPr>
          <a:xfrm>
            <a:off x="7407360" y="3068640"/>
            <a:ext cx="301680" cy="291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MARTPenAnnotation196"/>
          <p:cNvSpPr/>
          <p:nvPr/>
        </p:nvSpPr>
        <p:spPr>
          <a:xfrm>
            <a:off x="7848720" y="2879640"/>
            <a:ext cx="780840" cy="523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MARTPenAnnotation197"/>
          <p:cNvSpPr/>
          <p:nvPr/>
        </p:nvSpPr>
        <p:spPr>
          <a:xfrm>
            <a:off x="8080200" y="3154320"/>
            <a:ext cx="138240" cy="34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MARTPenAnnotation198"/>
          <p:cNvSpPr/>
          <p:nvPr/>
        </p:nvSpPr>
        <p:spPr>
          <a:xfrm>
            <a:off x="8264520" y="3006720"/>
            <a:ext cx="182520" cy="365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MARTPenAnnotation199"/>
          <p:cNvSpPr/>
          <p:nvPr/>
        </p:nvSpPr>
        <p:spPr>
          <a:xfrm>
            <a:off x="8505720" y="2982960"/>
            <a:ext cx="225360" cy="399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MARTPenAnnotation200"/>
          <p:cNvSpPr/>
          <p:nvPr/>
        </p:nvSpPr>
        <p:spPr>
          <a:xfrm>
            <a:off x="7897680" y="3463920"/>
            <a:ext cx="320760" cy="514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MARTPenAnnotation201"/>
          <p:cNvSpPr/>
          <p:nvPr/>
        </p:nvSpPr>
        <p:spPr>
          <a:xfrm>
            <a:off x="7578720" y="4160880"/>
            <a:ext cx="239760" cy="22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MARTPenAnnotation202"/>
          <p:cNvSpPr/>
          <p:nvPr/>
        </p:nvSpPr>
        <p:spPr>
          <a:xfrm>
            <a:off x="7932600" y="4057560"/>
            <a:ext cx="79560" cy="2970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MARTPenAnnotation203"/>
          <p:cNvSpPr/>
          <p:nvPr/>
        </p:nvSpPr>
        <p:spPr>
          <a:xfrm>
            <a:off x="8389800" y="3497400"/>
            <a:ext cx="228600" cy="582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MARTPenAnnotation204"/>
          <p:cNvSpPr/>
          <p:nvPr/>
        </p:nvSpPr>
        <p:spPr>
          <a:xfrm>
            <a:off x="8389800" y="4138560"/>
            <a:ext cx="204840" cy="262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MARTPenAnnotation205"/>
          <p:cNvSpPr/>
          <p:nvPr/>
        </p:nvSpPr>
        <p:spPr>
          <a:xfrm>
            <a:off x="8697960" y="4046400"/>
            <a:ext cx="191880" cy="376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MARTPenAnnotation206"/>
          <p:cNvSpPr/>
          <p:nvPr/>
        </p:nvSpPr>
        <p:spPr>
          <a:xfrm>
            <a:off x="8379000" y="4468680"/>
            <a:ext cx="193680" cy="331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MARTPenAnnotation207"/>
          <p:cNvSpPr/>
          <p:nvPr/>
        </p:nvSpPr>
        <p:spPr>
          <a:xfrm>
            <a:off x="8161200" y="4915080"/>
            <a:ext cx="147600" cy="330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MARTPenAnnotation208"/>
          <p:cNvSpPr/>
          <p:nvPr/>
        </p:nvSpPr>
        <p:spPr>
          <a:xfrm>
            <a:off x="8709120" y="4479840"/>
            <a:ext cx="183960" cy="366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MARTPenAnnotation209"/>
          <p:cNvSpPr/>
          <p:nvPr/>
        </p:nvSpPr>
        <p:spPr>
          <a:xfrm>
            <a:off x="8755200" y="4915080"/>
            <a:ext cx="191880" cy="3315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MARTPenAnnotation210"/>
          <p:cNvSpPr/>
          <p:nvPr/>
        </p:nvSpPr>
        <p:spPr>
          <a:xfrm>
            <a:off x="8058240" y="2228760"/>
            <a:ext cx="114120" cy="549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MARTPenAnnotation211"/>
          <p:cNvSpPr/>
          <p:nvPr/>
        </p:nvSpPr>
        <p:spPr>
          <a:xfrm>
            <a:off x="7921800" y="2013120"/>
            <a:ext cx="285480" cy="295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MARTPenAnnotation212"/>
          <p:cNvSpPr/>
          <p:nvPr/>
        </p:nvSpPr>
        <p:spPr>
          <a:xfrm>
            <a:off x="7704000" y="1622520"/>
            <a:ext cx="33480" cy="285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MARTPenAnnotation213"/>
          <p:cNvSpPr/>
          <p:nvPr/>
        </p:nvSpPr>
        <p:spPr>
          <a:xfrm>
            <a:off x="7647120" y="1455840"/>
            <a:ext cx="50760" cy="30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MARTPenAnnotation214"/>
          <p:cNvSpPr/>
          <p:nvPr/>
        </p:nvSpPr>
        <p:spPr>
          <a:xfrm>
            <a:off x="7864560" y="1371600"/>
            <a:ext cx="650880" cy="536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MARTPenAnnotation215"/>
          <p:cNvSpPr/>
          <p:nvPr/>
        </p:nvSpPr>
        <p:spPr>
          <a:xfrm>
            <a:off x="8069400" y="1509840"/>
            <a:ext cx="239400" cy="330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MARTPenAnnotation216"/>
          <p:cNvSpPr/>
          <p:nvPr/>
        </p:nvSpPr>
        <p:spPr>
          <a:xfrm>
            <a:off x="8379000" y="1428840"/>
            <a:ext cx="193680" cy="377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MARTPenAnnotation217"/>
          <p:cNvSpPr/>
          <p:nvPr/>
        </p:nvSpPr>
        <p:spPr>
          <a:xfrm>
            <a:off x="2811600" y="4525920"/>
            <a:ext cx="422280" cy="411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SMARTPenAnnotation40"/>
          <p:cNvSpPr/>
          <p:nvPr/>
        </p:nvSpPr>
        <p:spPr>
          <a:xfrm>
            <a:off x="1406520" y="1155600"/>
            <a:ext cx="272880" cy="741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MARTPenAnnotation41"/>
          <p:cNvSpPr/>
          <p:nvPr/>
        </p:nvSpPr>
        <p:spPr>
          <a:xfrm>
            <a:off x="1211400" y="1508040"/>
            <a:ext cx="480960" cy="184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MARTPenAnnotation42"/>
          <p:cNvSpPr/>
          <p:nvPr/>
        </p:nvSpPr>
        <p:spPr>
          <a:xfrm>
            <a:off x="1817640" y="1143000"/>
            <a:ext cx="171360" cy="696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MARTPenAnnotation43"/>
          <p:cNvSpPr/>
          <p:nvPr/>
        </p:nvSpPr>
        <p:spPr>
          <a:xfrm>
            <a:off x="2035080" y="1474920"/>
            <a:ext cx="239760" cy="261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MARTPenAnnotation44"/>
          <p:cNvSpPr/>
          <p:nvPr/>
        </p:nvSpPr>
        <p:spPr>
          <a:xfrm>
            <a:off x="1979640" y="1486080"/>
            <a:ext cx="237960" cy="3538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MARTPenAnnotation45"/>
          <p:cNvSpPr/>
          <p:nvPr/>
        </p:nvSpPr>
        <p:spPr>
          <a:xfrm>
            <a:off x="2263680" y="1292400"/>
            <a:ext cx="123840" cy="571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MARTPenAnnotation46"/>
          <p:cNvSpPr/>
          <p:nvPr/>
        </p:nvSpPr>
        <p:spPr>
          <a:xfrm>
            <a:off x="2583000" y="1450800"/>
            <a:ext cx="195120" cy="35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MARTPenAnnotation47"/>
          <p:cNvSpPr/>
          <p:nvPr/>
        </p:nvSpPr>
        <p:spPr>
          <a:xfrm>
            <a:off x="2789280" y="1450800"/>
            <a:ext cx="3240" cy="360"/>
          </a:xfrm>
          <a:prstGeom prst="pie">
            <a:avLst/>
          </a:prstGeom>
          <a:solidFill>
            <a:srgbClr val="ff388c"/>
          </a:solidFill>
          <a:ln w="38160">
            <a:solidFill>
              <a:srgbClr val="009d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MARTPenAnnotation48"/>
          <p:cNvSpPr/>
          <p:nvPr/>
        </p:nvSpPr>
        <p:spPr>
          <a:xfrm>
            <a:off x="2617920" y="1600200"/>
            <a:ext cx="239760" cy="20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MARTPenAnnotation49"/>
          <p:cNvSpPr/>
          <p:nvPr/>
        </p:nvSpPr>
        <p:spPr>
          <a:xfrm>
            <a:off x="3025800" y="1336680"/>
            <a:ext cx="243000" cy="399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MARTPenAnnotation50"/>
          <p:cNvSpPr/>
          <p:nvPr/>
        </p:nvSpPr>
        <p:spPr>
          <a:xfrm>
            <a:off x="3017880" y="1336680"/>
            <a:ext cx="136440" cy="388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MARTPenAnnotation51"/>
          <p:cNvSpPr/>
          <p:nvPr/>
        </p:nvSpPr>
        <p:spPr>
          <a:xfrm>
            <a:off x="3292560" y="1166760"/>
            <a:ext cx="261720" cy="308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MARTPenAnnotation52"/>
          <p:cNvSpPr/>
          <p:nvPr/>
        </p:nvSpPr>
        <p:spPr>
          <a:xfrm>
            <a:off x="3692520" y="1521000"/>
            <a:ext cx="230040" cy="568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MARTPenAnnotation53"/>
          <p:cNvSpPr/>
          <p:nvPr/>
        </p:nvSpPr>
        <p:spPr>
          <a:xfrm>
            <a:off x="3933720" y="1236600"/>
            <a:ext cx="295560" cy="504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SMARTPenAnnotation54"/>
          <p:cNvSpPr/>
          <p:nvPr/>
        </p:nvSpPr>
        <p:spPr>
          <a:xfrm>
            <a:off x="4275000" y="1393920"/>
            <a:ext cx="228600" cy="274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MARTPenAnnotation55"/>
          <p:cNvSpPr/>
          <p:nvPr/>
        </p:nvSpPr>
        <p:spPr>
          <a:xfrm>
            <a:off x="4165560" y="1406520"/>
            <a:ext cx="235080" cy="330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MARTPenAnnotation56"/>
          <p:cNvSpPr/>
          <p:nvPr/>
        </p:nvSpPr>
        <p:spPr>
          <a:xfrm>
            <a:off x="4629240" y="1508040"/>
            <a:ext cx="365040" cy="34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MARTPenAnnotation57"/>
          <p:cNvSpPr/>
          <p:nvPr/>
        </p:nvSpPr>
        <p:spPr>
          <a:xfrm>
            <a:off x="4664160" y="1371600"/>
            <a:ext cx="114120" cy="479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MARTPenAnnotation58"/>
          <p:cNvSpPr/>
          <p:nvPr/>
        </p:nvSpPr>
        <p:spPr>
          <a:xfrm>
            <a:off x="5075280" y="1246320"/>
            <a:ext cx="114120" cy="529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MARTPenAnnotation59"/>
          <p:cNvSpPr/>
          <p:nvPr/>
        </p:nvSpPr>
        <p:spPr>
          <a:xfrm>
            <a:off x="5246640" y="1327320"/>
            <a:ext cx="273240" cy="365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MARTPenAnnotation60"/>
          <p:cNvSpPr/>
          <p:nvPr/>
        </p:nvSpPr>
        <p:spPr>
          <a:xfrm>
            <a:off x="5565600" y="1279440"/>
            <a:ext cx="343080" cy="3780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MARTPenAnnotation61"/>
          <p:cNvSpPr/>
          <p:nvPr/>
        </p:nvSpPr>
        <p:spPr>
          <a:xfrm>
            <a:off x="971640" y="2446200"/>
            <a:ext cx="239760" cy="409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MARTPenAnnotation62"/>
          <p:cNvSpPr/>
          <p:nvPr/>
        </p:nvSpPr>
        <p:spPr>
          <a:xfrm>
            <a:off x="809640" y="2468520"/>
            <a:ext cx="412560" cy="378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MARTPenAnnotation63"/>
          <p:cNvSpPr/>
          <p:nvPr/>
        </p:nvSpPr>
        <p:spPr>
          <a:xfrm>
            <a:off x="1257480" y="2527200"/>
            <a:ext cx="320400" cy="55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MARTPenAnnotation64"/>
          <p:cNvSpPr/>
          <p:nvPr/>
        </p:nvSpPr>
        <p:spPr>
          <a:xfrm>
            <a:off x="1279440" y="2652840"/>
            <a:ext cx="298440" cy="55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MARTPenAnnotation65"/>
          <p:cNvSpPr/>
          <p:nvPr/>
        </p:nvSpPr>
        <p:spPr>
          <a:xfrm>
            <a:off x="1852560" y="2320920"/>
            <a:ext cx="398520" cy="422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MARTPenAnnotation66"/>
          <p:cNvSpPr/>
          <p:nvPr/>
        </p:nvSpPr>
        <p:spPr>
          <a:xfrm>
            <a:off x="2479680" y="2446200"/>
            <a:ext cx="32076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MARTPenAnnotation67"/>
          <p:cNvSpPr/>
          <p:nvPr/>
        </p:nvSpPr>
        <p:spPr>
          <a:xfrm>
            <a:off x="2593800" y="2354400"/>
            <a:ext cx="46080" cy="331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MARTPenAnnotation68"/>
          <p:cNvSpPr/>
          <p:nvPr/>
        </p:nvSpPr>
        <p:spPr>
          <a:xfrm>
            <a:off x="2343240" y="2720880"/>
            <a:ext cx="479160" cy="33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MARTPenAnnotation69"/>
          <p:cNvSpPr/>
          <p:nvPr/>
        </p:nvSpPr>
        <p:spPr>
          <a:xfrm>
            <a:off x="2949480" y="2036880"/>
            <a:ext cx="3616560" cy="803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SMARTPenAnnotation70"/>
          <p:cNvSpPr/>
          <p:nvPr/>
        </p:nvSpPr>
        <p:spPr>
          <a:xfrm>
            <a:off x="3371760" y="2365200"/>
            <a:ext cx="136440" cy="503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MARTPenAnnotation71"/>
          <p:cNvSpPr/>
          <p:nvPr/>
        </p:nvSpPr>
        <p:spPr>
          <a:xfrm>
            <a:off x="3521160" y="2629080"/>
            <a:ext cx="147600" cy="68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MARTPenAnnotation72"/>
          <p:cNvSpPr/>
          <p:nvPr/>
        </p:nvSpPr>
        <p:spPr>
          <a:xfrm>
            <a:off x="3736800" y="2435400"/>
            <a:ext cx="263880" cy="365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MARTPenAnnotation73"/>
          <p:cNvSpPr/>
          <p:nvPr/>
        </p:nvSpPr>
        <p:spPr>
          <a:xfrm>
            <a:off x="3965400" y="2411280"/>
            <a:ext cx="182880" cy="481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MARTPenAnnotation74"/>
          <p:cNvSpPr/>
          <p:nvPr/>
        </p:nvSpPr>
        <p:spPr>
          <a:xfrm>
            <a:off x="4172040" y="2367000"/>
            <a:ext cx="250560" cy="193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MARTPenAnnotation75"/>
          <p:cNvSpPr/>
          <p:nvPr/>
        </p:nvSpPr>
        <p:spPr>
          <a:xfrm>
            <a:off x="4492800" y="2629080"/>
            <a:ext cx="250560" cy="45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MARTPenAnnotation76"/>
          <p:cNvSpPr/>
          <p:nvPr/>
        </p:nvSpPr>
        <p:spPr>
          <a:xfrm>
            <a:off x="4892760" y="2365200"/>
            <a:ext cx="239760" cy="171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MARTPenAnnotation77"/>
          <p:cNvSpPr/>
          <p:nvPr/>
        </p:nvSpPr>
        <p:spPr>
          <a:xfrm>
            <a:off x="5051520" y="2354400"/>
            <a:ext cx="34920" cy="439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MARTPenAnnotation78"/>
          <p:cNvSpPr/>
          <p:nvPr/>
        </p:nvSpPr>
        <p:spPr>
          <a:xfrm>
            <a:off x="5132520" y="2297160"/>
            <a:ext cx="193680" cy="503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MARTPenAnnotation79"/>
          <p:cNvSpPr/>
          <p:nvPr/>
        </p:nvSpPr>
        <p:spPr>
          <a:xfrm>
            <a:off x="5361120" y="2479680"/>
            <a:ext cx="360" cy="285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MARTPenAnnotation80"/>
          <p:cNvSpPr/>
          <p:nvPr/>
        </p:nvSpPr>
        <p:spPr>
          <a:xfrm>
            <a:off x="5451480" y="2274840"/>
            <a:ext cx="189000" cy="541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MARTPenAnnotation81"/>
          <p:cNvSpPr/>
          <p:nvPr/>
        </p:nvSpPr>
        <p:spPr>
          <a:xfrm>
            <a:off x="5670720" y="2217600"/>
            <a:ext cx="215640" cy="547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MARTPenAnnotation82"/>
          <p:cNvSpPr/>
          <p:nvPr/>
        </p:nvSpPr>
        <p:spPr>
          <a:xfrm>
            <a:off x="5853240" y="2365200"/>
            <a:ext cx="33120" cy="331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MARTPenAnnotation83"/>
          <p:cNvSpPr/>
          <p:nvPr/>
        </p:nvSpPr>
        <p:spPr>
          <a:xfrm>
            <a:off x="5932440" y="2400480"/>
            <a:ext cx="182520" cy="239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MARTPenAnnotation84"/>
          <p:cNvSpPr/>
          <p:nvPr/>
        </p:nvSpPr>
        <p:spPr>
          <a:xfrm>
            <a:off x="6165720" y="2365200"/>
            <a:ext cx="222480" cy="246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MARTPenAnnotation85"/>
          <p:cNvSpPr/>
          <p:nvPr/>
        </p:nvSpPr>
        <p:spPr>
          <a:xfrm>
            <a:off x="1292400" y="2892600"/>
            <a:ext cx="5235480" cy="307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MARTPenAnnotation86"/>
          <p:cNvSpPr/>
          <p:nvPr/>
        </p:nvSpPr>
        <p:spPr>
          <a:xfrm>
            <a:off x="2732040" y="3246480"/>
            <a:ext cx="514440" cy="297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MARTPenAnnotation87"/>
          <p:cNvSpPr/>
          <p:nvPr/>
        </p:nvSpPr>
        <p:spPr>
          <a:xfrm>
            <a:off x="3294000" y="3182760"/>
            <a:ext cx="135000" cy="360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MARTPenAnnotation88"/>
          <p:cNvSpPr/>
          <p:nvPr/>
        </p:nvSpPr>
        <p:spPr>
          <a:xfrm>
            <a:off x="3508200" y="3292560"/>
            <a:ext cx="57240" cy="261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MARTPenAnnotation89"/>
          <p:cNvSpPr/>
          <p:nvPr/>
        </p:nvSpPr>
        <p:spPr>
          <a:xfrm>
            <a:off x="3578400" y="3200400"/>
            <a:ext cx="182520" cy="468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MARTPenAnnotation90"/>
          <p:cNvSpPr/>
          <p:nvPr/>
        </p:nvSpPr>
        <p:spPr>
          <a:xfrm>
            <a:off x="6183360" y="2233440"/>
            <a:ext cx="349200" cy="544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MARTPenAnnotation91"/>
          <p:cNvSpPr/>
          <p:nvPr/>
        </p:nvSpPr>
        <p:spPr>
          <a:xfrm>
            <a:off x="1200240" y="4035600"/>
            <a:ext cx="263520" cy="21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MARTPenAnnotation92"/>
          <p:cNvSpPr/>
          <p:nvPr/>
        </p:nvSpPr>
        <p:spPr>
          <a:xfrm>
            <a:off x="1143000" y="4103640"/>
            <a:ext cx="34308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MARTPenAnnotation93"/>
          <p:cNvSpPr/>
          <p:nvPr/>
        </p:nvSpPr>
        <p:spPr>
          <a:xfrm>
            <a:off x="1646280" y="3828960"/>
            <a:ext cx="468360" cy="468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MARTPenAnnotation94"/>
          <p:cNvSpPr/>
          <p:nvPr/>
        </p:nvSpPr>
        <p:spPr>
          <a:xfrm>
            <a:off x="2160720" y="4035600"/>
            <a:ext cx="353880" cy="21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MARTPenAnnotation95"/>
          <p:cNvSpPr/>
          <p:nvPr/>
        </p:nvSpPr>
        <p:spPr>
          <a:xfrm>
            <a:off x="2354400" y="3908520"/>
            <a:ext cx="46080" cy="342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MARTPenAnnotation96"/>
          <p:cNvSpPr/>
          <p:nvPr/>
        </p:nvSpPr>
        <p:spPr>
          <a:xfrm>
            <a:off x="2136600" y="4255920"/>
            <a:ext cx="355680" cy="19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MARTPenAnnotation97"/>
          <p:cNvSpPr/>
          <p:nvPr/>
        </p:nvSpPr>
        <p:spPr>
          <a:xfrm>
            <a:off x="2571840" y="3760920"/>
            <a:ext cx="2435040" cy="581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MARTPenAnnotation98"/>
          <p:cNvSpPr/>
          <p:nvPr/>
        </p:nvSpPr>
        <p:spPr>
          <a:xfrm>
            <a:off x="2938320" y="3989520"/>
            <a:ext cx="204840" cy="114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MARTPenAnnotation99"/>
          <p:cNvSpPr/>
          <p:nvPr/>
        </p:nvSpPr>
        <p:spPr>
          <a:xfrm>
            <a:off x="3132000" y="3932280"/>
            <a:ext cx="33480" cy="393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MARTPenAnnotation100"/>
          <p:cNvSpPr/>
          <p:nvPr/>
        </p:nvSpPr>
        <p:spPr>
          <a:xfrm>
            <a:off x="3349800" y="4114800"/>
            <a:ext cx="261720" cy="2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MARTPenAnnotation101"/>
          <p:cNvSpPr/>
          <p:nvPr/>
        </p:nvSpPr>
        <p:spPr>
          <a:xfrm>
            <a:off x="3760920" y="3913200"/>
            <a:ext cx="274680" cy="166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MARTPenAnnotation102"/>
          <p:cNvSpPr/>
          <p:nvPr/>
        </p:nvSpPr>
        <p:spPr>
          <a:xfrm>
            <a:off x="3965400" y="3921120"/>
            <a:ext cx="24120" cy="433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MARTPenAnnotation103"/>
          <p:cNvSpPr/>
          <p:nvPr/>
        </p:nvSpPr>
        <p:spPr>
          <a:xfrm>
            <a:off x="4068720" y="4011480"/>
            <a:ext cx="290520" cy="250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MARTPenAnnotation104"/>
          <p:cNvSpPr/>
          <p:nvPr/>
        </p:nvSpPr>
        <p:spPr>
          <a:xfrm>
            <a:off x="4402080" y="3989520"/>
            <a:ext cx="336600" cy="274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MARTPenAnnotation105"/>
          <p:cNvSpPr/>
          <p:nvPr/>
        </p:nvSpPr>
        <p:spPr>
          <a:xfrm>
            <a:off x="1782720" y="4457880"/>
            <a:ext cx="3121200" cy="114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MARTPenAnnotation106"/>
          <p:cNvSpPr/>
          <p:nvPr/>
        </p:nvSpPr>
        <p:spPr>
          <a:xfrm>
            <a:off x="2593800" y="4664160"/>
            <a:ext cx="595440" cy="228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MARTPenAnnotation107"/>
          <p:cNvSpPr/>
          <p:nvPr/>
        </p:nvSpPr>
        <p:spPr>
          <a:xfrm>
            <a:off x="5086440" y="4422600"/>
            <a:ext cx="274680" cy="12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SMARTPenAnnotation108"/>
          <p:cNvSpPr/>
          <p:nvPr/>
        </p:nvSpPr>
        <p:spPr>
          <a:xfrm>
            <a:off x="5086440" y="4549680"/>
            <a:ext cx="21744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MARTPenAnnotation109"/>
          <p:cNvSpPr/>
          <p:nvPr/>
        </p:nvSpPr>
        <p:spPr>
          <a:xfrm>
            <a:off x="5611680" y="3909960"/>
            <a:ext cx="446400" cy="536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MARTPenAnnotation110"/>
          <p:cNvSpPr/>
          <p:nvPr/>
        </p:nvSpPr>
        <p:spPr>
          <a:xfrm>
            <a:off x="6126120" y="4057560"/>
            <a:ext cx="424080" cy="2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SMARTPenAnnotation111"/>
          <p:cNvSpPr/>
          <p:nvPr/>
        </p:nvSpPr>
        <p:spPr>
          <a:xfrm>
            <a:off x="6275520" y="3921120"/>
            <a:ext cx="145800" cy="433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MARTPenAnnotation112"/>
          <p:cNvSpPr/>
          <p:nvPr/>
        </p:nvSpPr>
        <p:spPr>
          <a:xfrm>
            <a:off x="6114960" y="4378320"/>
            <a:ext cx="492120" cy="101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MARTPenAnnotation113"/>
          <p:cNvSpPr/>
          <p:nvPr/>
        </p:nvSpPr>
        <p:spPr>
          <a:xfrm>
            <a:off x="6607080" y="3556080"/>
            <a:ext cx="1782720" cy="947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MARTPenAnnotation114"/>
          <p:cNvSpPr/>
          <p:nvPr/>
        </p:nvSpPr>
        <p:spPr>
          <a:xfrm>
            <a:off x="6937200" y="4114800"/>
            <a:ext cx="217800" cy="17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MARTPenAnnotation115"/>
          <p:cNvSpPr/>
          <p:nvPr/>
        </p:nvSpPr>
        <p:spPr>
          <a:xfrm>
            <a:off x="7257960" y="3865680"/>
            <a:ext cx="271440" cy="442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MARTPenAnnotation116"/>
          <p:cNvSpPr/>
          <p:nvPr/>
        </p:nvSpPr>
        <p:spPr>
          <a:xfrm>
            <a:off x="7580160" y="3886200"/>
            <a:ext cx="169920" cy="434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MARTPenAnnotation117"/>
          <p:cNvSpPr/>
          <p:nvPr/>
        </p:nvSpPr>
        <p:spPr>
          <a:xfrm>
            <a:off x="7818480" y="3875040"/>
            <a:ext cx="261720" cy="468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MARTPenAnnotation118"/>
          <p:cNvSpPr/>
          <p:nvPr/>
        </p:nvSpPr>
        <p:spPr>
          <a:xfrm>
            <a:off x="5737320" y="4479840"/>
            <a:ext cx="2732040" cy="217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MARTPenAnnotation119"/>
          <p:cNvSpPr/>
          <p:nvPr/>
        </p:nvSpPr>
        <p:spPr>
          <a:xfrm>
            <a:off x="6629400" y="4697280"/>
            <a:ext cx="365040" cy="285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MARTPenAnnotation120"/>
          <p:cNvSpPr/>
          <p:nvPr/>
        </p:nvSpPr>
        <p:spPr>
          <a:xfrm>
            <a:off x="7086600" y="701640"/>
            <a:ext cx="1303200" cy="644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MARTPenAnnotation121"/>
          <p:cNvSpPr/>
          <p:nvPr/>
        </p:nvSpPr>
        <p:spPr>
          <a:xfrm>
            <a:off x="7292880" y="1017720"/>
            <a:ext cx="193680" cy="46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MARTPenAnnotation122"/>
          <p:cNvSpPr/>
          <p:nvPr/>
        </p:nvSpPr>
        <p:spPr>
          <a:xfrm>
            <a:off x="7521480" y="892080"/>
            <a:ext cx="216000" cy="365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MARTPenAnnotation123"/>
          <p:cNvSpPr/>
          <p:nvPr/>
        </p:nvSpPr>
        <p:spPr>
          <a:xfrm>
            <a:off x="7773840" y="846000"/>
            <a:ext cx="169920" cy="365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MARTPenAnnotation124"/>
          <p:cNvSpPr/>
          <p:nvPr/>
        </p:nvSpPr>
        <p:spPr>
          <a:xfrm>
            <a:off x="8080200" y="789120"/>
            <a:ext cx="206640" cy="420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MARTPenAnnotation125"/>
          <p:cNvSpPr/>
          <p:nvPr/>
        </p:nvSpPr>
        <p:spPr>
          <a:xfrm>
            <a:off x="7486560" y="1360440"/>
            <a:ext cx="171720" cy="331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SMARTPenAnnotation126"/>
          <p:cNvSpPr/>
          <p:nvPr/>
        </p:nvSpPr>
        <p:spPr>
          <a:xfrm>
            <a:off x="7029360" y="1908000"/>
            <a:ext cx="228600" cy="35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MARTPenAnnotation127"/>
          <p:cNvSpPr/>
          <p:nvPr/>
        </p:nvSpPr>
        <p:spPr>
          <a:xfrm>
            <a:off x="7451640" y="1749600"/>
            <a:ext cx="81000" cy="2728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MARTPenAnnotation128"/>
          <p:cNvSpPr/>
          <p:nvPr/>
        </p:nvSpPr>
        <p:spPr>
          <a:xfrm>
            <a:off x="6892920" y="1622520"/>
            <a:ext cx="833400" cy="446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MARTPenAnnotation129"/>
          <p:cNvSpPr/>
          <p:nvPr/>
        </p:nvSpPr>
        <p:spPr>
          <a:xfrm>
            <a:off x="7954920" y="1246320"/>
            <a:ext cx="485640" cy="433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SMARTPenAnnotation130"/>
          <p:cNvSpPr/>
          <p:nvPr/>
        </p:nvSpPr>
        <p:spPr>
          <a:xfrm>
            <a:off x="7978680" y="1577880"/>
            <a:ext cx="811440" cy="523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MARTPenAnnotation131"/>
          <p:cNvSpPr/>
          <p:nvPr/>
        </p:nvSpPr>
        <p:spPr>
          <a:xfrm>
            <a:off x="8207280" y="1681200"/>
            <a:ext cx="181080" cy="2970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MARTPenAnnotation132"/>
          <p:cNvSpPr/>
          <p:nvPr/>
        </p:nvSpPr>
        <p:spPr>
          <a:xfrm>
            <a:off x="8435880" y="1635120"/>
            <a:ext cx="158760" cy="358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MARTPenAnnotation133"/>
          <p:cNvSpPr/>
          <p:nvPr/>
        </p:nvSpPr>
        <p:spPr>
          <a:xfrm>
            <a:off x="8651880" y="1646280"/>
            <a:ext cx="216000" cy="331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SMARTPenAnnotation134"/>
          <p:cNvSpPr/>
          <p:nvPr/>
        </p:nvSpPr>
        <p:spPr>
          <a:xfrm>
            <a:off x="8012160" y="2046240"/>
            <a:ext cx="388800" cy="354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MARTPenAnnotation135"/>
          <p:cNvSpPr/>
          <p:nvPr/>
        </p:nvSpPr>
        <p:spPr>
          <a:xfrm>
            <a:off x="7772400" y="2486160"/>
            <a:ext cx="171360" cy="360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MARTPenAnnotation136"/>
          <p:cNvSpPr/>
          <p:nvPr/>
        </p:nvSpPr>
        <p:spPr>
          <a:xfrm>
            <a:off x="7521480" y="2389320"/>
            <a:ext cx="507960" cy="531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MARTPenAnnotation137"/>
          <p:cNvSpPr/>
          <p:nvPr/>
        </p:nvSpPr>
        <p:spPr>
          <a:xfrm>
            <a:off x="8526600" y="2079720"/>
            <a:ext cx="171360" cy="4125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MARTPenAnnotation138"/>
          <p:cNvSpPr/>
          <p:nvPr/>
        </p:nvSpPr>
        <p:spPr>
          <a:xfrm>
            <a:off x="8366040" y="2405160"/>
            <a:ext cx="628560" cy="498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MARTPenAnnotation139"/>
          <p:cNvSpPr/>
          <p:nvPr/>
        </p:nvSpPr>
        <p:spPr>
          <a:xfrm>
            <a:off x="8574120" y="2525760"/>
            <a:ext cx="181080" cy="114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SMARTPenAnnotation140"/>
          <p:cNvSpPr/>
          <p:nvPr/>
        </p:nvSpPr>
        <p:spPr>
          <a:xfrm>
            <a:off x="8697960" y="2503440"/>
            <a:ext cx="57240" cy="354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MARTPenAnnotation141"/>
          <p:cNvSpPr/>
          <p:nvPr/>
        </p:nvSpPr>
        <p:spPr>
          <a:xfrm>
            <a:off x="8801280" y="2479680"/>
            <a:ext cx="149040" cy="177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MARTPenAnnotation142"/>
          <p:cNvSpPr/>
          <p:nvPr/>
        </p:nvSpPr>
        <p:spPr>
          <a:xfrm>
            <a:off x="8904240" y="2446200"/>
            <a:ext cx="33480" cy="400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MARTPenAnnotation143"/>
          <p:cNvSpPr/>
          <p:nvPr/>
        </p:nvSpPr>
        <p:spPr>
          <a:xfrm>
            <a:off x="8400960" y="2925720"/>
            <a:ext cx="250920" cy="206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MARTPenAnnotation144"/>
          <p:cNvSpPr/>
          <p:nvPr/>
        </p:nvSpPr>
        <p:spPr>
          <a:xfrm>
            <a:off x="8047080" y="3108240"/>
            <a:ext cx="490320" cy="331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MARTPenAnnotation145"/>
          <p:cNvSpPr/>
          <p:nvPr/>
        </p:nvSpPr>
        <p:spPr>
          <a:xfrm>
            <a:off x="8207280" y="3178080"/>
            <a:ext cx="193680" cy="112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MARTPenAnnotation146"/>
          <p:cNvSpPr/>
          <p:nvPr/>
        </p:nvSpPr>
        <p:spPr>
          <a:xfrm>
            <a:off x="8332920" y="3189240"/>
            <a:ext cx="21960" cy="262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SMARTPenAnnotation147"/>
          <p:cNvSpPr/>
          <p:nvPr/>
        </p:nvSpPr>
        <p:spPr>
          <a:xfrm>
            <a:off x="8778960" y="2892600"/>
            <a:ext cx="101520" cy="365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SMARTPenAnnotation148"/>
          <p:cNvSpPr/>
          <p:nvPr/>
        </p:nvSpPr>
        <p:spPr>
          <a:xfrm>
            <a:off x="8629560" y="3156120"/>
            <a:ext cx="435240" cy="3585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SMARTPenAnnotation149"/>
          <p:cNvSpPr/>
          <p:nvPr/>
        </p:nvSpPr>
        <p:spPr>
          <a:xfrm>
            <a:off x="8869320" y="3279600"/>
            <a:ext cx="68400" cy="217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MARTPenAnnotation150"/>
          <p:cNvSpPr/>
          <p:nvPr/>
        </p:nvSpPr>
        <p:spPr>
          <a:xfrm>
            <a:off x="8972640" y="3246480"/>
            <a:ext cx="57240" cy="285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MARTPenAnnotation151"/>
          <p:cNvSpPr/>
          <p:nvPr/>
        </p:nvSpPr>
        <p:spPr>
          <a:xfrm>
            <a:off x="7236000" y="2149560"/>
            <a:ext cx="33120" cy="204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MARTPenAnnotation152"/>
          <p:cNvSpPr/>
          <p:nvPr/>
        </p:nvSpPr>
        <p:spPr>
          <a:xfrm>
            <a:off x="7280280" y="2354400"/>
            <a:ext cx="4680" cy="360"/>
          </a:xfrm>
          <a:prstGeom prst="pie">
            <a:avLst/>
          </a:prstGeom>
          <a:solidFill>
            <a:srgbClr val="ff388c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SMARTPenAnnotation153"/>
          <p:cNvSpPr/>
          <p:nvPr/>
        </p:nvSpPr>
        <p:spPr>
          <a:xfrm>
            <a:off x="7189920" y="2035080"/>
            <a:ext cx="33120" cy="42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SMARTPenAnnotation154"/>
          <p:cNvSpPr/>
          <p:nvPr/>
        </p:nvSpPr>
        <p:spPr>
          <a:xfrm>
            <a:off x="7554960" y="2971800"/>
            <a:ext cx="261720" cy="272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MARTPenAnnotation155"/>
          <p:cNvSpPr/>
          <p:nvPr/>
        </p:nvSpPr>
        <p:spPr>
          <a:xfrm>
            <a:off x="8251920" y="3543480"/>
            <a:ext cx="320760" cy="206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MARTPenAnnotation156"/>
          <p:cNvSpPr/>
          <p:nvPr/>
        </p:nvSpPr>
        <p:spPr>
          <a:xfrm>
            <a:off x="343080" y="5303880"/>
            <a:ext cx="285480" cy="46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SMARTPenAnnotation157"/>
          <p:cNvSpPr/>
          <p:nvPr/>
        </p:nvSpPr>
        <p:spPr>
          <a:xfrm>
            <a:off x="274680" y="5430960"/>
            <a:ext cx="318960" cy="33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SMARTPenAnnotation158"/>
          <p:cNvSpPr/>
          <p:nvPr/>
        </p:nvSpPr>
        <p:spPr>
          <a:xfrm>
            <a:off x="754200" y="5121360"/>
            <a:ext cx="538200" cy="301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MARTPenAnnotation159"/>
          <p:cNvSpPr/>
          <p:nvPr/>
        </p:nvSpPr>
        <p:spPr>
          <a:xfrm>
            <a:off x="1360440" y="5200560"/>
            <a:ext cx="343080" cy="34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SMARTPenAnnotation160"/>
          <p:cNvSpPr/>
          <p:nvPr/>
        </p:nvSpPr>
        <p:spPr>
          <a:xfrm>
            <a:off x="1565280" y="5097600"/>
            <a:ext cx="46080" cy="2966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SMARTPenAnnotation161"/>
          <p:cNvSpPr/>
          <p:nvPr/>
        </p:nvSpPr>
        <p:spPr>
          <a:xfrm>
            <a:off x="1325520" y="5383080"/>
            <a:ext cx="424080" cy="34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MARTPenAnnotation162"/>
          <p:cNvSpPr/>
          <p:nvPr/>
        </p:nvSpPr>
        <p:spPr>
          <a:xfrm>
            <a:off x="1922400" y="5018040"/>
            <a:ext cx="304920" cy="406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MARTPenAnnotation163"/>
          <p:cNvSpPr/>
          <p:nvPr/>
        </p:nvSpPr>
        <p:spPr>
          <a:xfrm>
            <a:off x="2286000" y="5189400"/>
            <a:ext cx="22320" cy="1605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SMARTPenAnnotation164"/>
          <p:cNvSpPr/>
          <p:nvPr/>
        </p:nvSpPr>
        <p:spPr>
          <a:xfrm>
            <a:off x="2257560" y="5065560"/>
            <a:ext cx="54000" cy="32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MARTPenAnnotation165"/>
          <p:cNvSpPr/>
          <p:nvPr/>
        </p:nvSpPr>
        <p:spPr>
          <a:xfrm>
            <a:off x="2435400" y="5029200"/>
            <a:ext cx="863280" cy="501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MARTPenAnnotation166"/>
          <p:cNvSpPr/>
          <p:nvPr/>
        </p:nvSpPr>
        <p:spPr>
          <a:xfrm>
            <a:off x="2816280" y="5154480"/>
            <a:ext cx="19080" cy="285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MARTPenAnnotation167"/>
          <p:cNvSpPr/>
          <p:nvPr/>
        </p:nvSpPr>
        <p:spPr>
          <a:xfrm>
            <a:off x="2949480" y="5143680"/>
            <a:ext cx="44640" cy="3776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MARTPenAnnotation168"/>
          <p:cNvSpPr/>
          <p:nvPr/>
        </p:nvSpPr>
        <p:spPr>
          <a:xfrm>
            <a:off x="696960" y="5622840"/>
            <a:ext cx="2697120" cy="103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SMARTPenAnnotation169"/>
          <p:cNvSpPr/>
          <p:nvPr/>
        </p:nvSpPr>
        <p:spPr>
          <a:xfrm>
            <a:off x="1450800" y="5772240"/>
            <a:ext cx="571680" cy="307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MARTPenAnnotation170"/>
          <p:cNvSpPr/>
          <p:nvPr/>
        </p:nvSpPr>
        <p:spPr>
          <a:xfrm>
            <a:off x="3703680" y="5646600"/>
            <a:ext cx="446040" cy="208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SMARTPenAnnotation171"/>
          <p:cNvSpPr/>
          <p:nvPr/>
        </p:nvSpPr>
        <p:spPr>
          <a:xfrm>
            <a:off x="3807000" y="5761080"/>
            <a:ext cx="365040" cy="57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MARTPenAnnotation172"/>
          <p:cNvSpPr/>
          <p:nvPr/>
        </p:nvSpPr>
        <p:spPr>
          <a:xfrm>
            <a:off x="4538520" y="5361120"/>
            <a:ext cx="22320" cy="571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MARTPenAnnotation173"/>
          <p:cNvSpPr/>
          <p:nvPr/>
        </p:nvSpPr>
        <p:spPr>
          <a:xfrm>
            <a:off x="4651200" y="5622840"/>
            <a:ext cx="366840" cy="69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SMARTPenAnnotation174"/>
          <p:cNvSpPr/>
          <p:nvPr/>
        </p:nvSpPr>
        <p:spPr>
          <a:xfrm>
            <a:off x="4857840" y="5475240"/>
            <a:ext cx="34920" cy="365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MARTPenAnnotation175"/>
          <p:cNvSpPr/>
          <p:nvPr/>
        </p:nvSpPr>
        <p:spPr>
          <a:xfrm>
            <a:off x="5121360" y="5397480"/>
            <a:ext cx="204840" cy="522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SMARTPenAnnotation176"/>
          <p:cNvSpPr/>
          <p:nvPr/>
        </p:nvSpPr>
        <p:spPr>
          <a:xfrm>
            <a:off x="5429160" y="5622840"/>
            <a:ext cx="22320" cy="274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SMARTPenAnnotation177"/>
          <p:cNvSpPr/>
          <p:nvPr/>
        </p:nvSpPr>
        <p:spPr>
          <a:xfrm>
            <a:off x="5384880" y="5372280"/>
            <a:ext cx="22320" cy="45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SMARTPenAnnotation178"/>
          <p:cNvSpPr/>
          <p:nvPr/>
        </p:nvSpPr>
        <p:spPr>
          <a:xfrm>
            <a:off x="5543640" y="5337000"/>
            <a:ext cx="650880" cy="565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SMARTPenAnnotation179"/>
          <p:cNvSpPr/>
          <p:nvPr/>
        </p:nvSpPr>
        <p:spPr>
          <a:xfrm>
            <a:off x="5807160" y="5497560"/>
            <a:ext cx="44280" cy="3776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MARTPenAnnotation180"/>
          <p:cNvSpPr/>
          <p:nvPr/>
        </p:nvSpPr>
        <p:spPr>
          <a:xfrm>
            <a:off x="5943600" y="5451480"/>
            <a:ext cx="79200" cy="457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SMARTPenAnnotation181"/>
          <p:cNvSpPr/>
          <p:nvPr/>
        </p:nvSpPr>
        <p:spPr>
          <a:xfrm>
            <a:off x="4664160" y="5886360"/>
            <a:ext cx="353880" cy="22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SMARTPenAnnotation182"/>
          <p:cNvSpPr/>
          <p:nvPr/>
        </p:nvSpPr>
        <p:spPr>
          <a:xfrm>
            <a:off x="4264200" y="6122880"/>
            <a:ext cx="330120" cy="453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SMARTPenAnnotation183"/>
          <p:cNvSpPr/>
          <p:nvPr/>
        </p:nvSpPr>
        <p:spPr>
          <a:xfrm>
            <a:off x="5283360" y="6022800"/>
            <a:ext cx="258480" cy="492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SMARTPenAnnotation184"/>
          <p:cNvSpPr/>
          <p:nvPr/>
        </p:nvSpPr>
        <p:spPr>
          <a:xfrm>
            <a:off x="5635800" y="6194520"/>
            <a:ext cx="21960" cy="274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SMARTPenAnnotation185"/>
          <p:cNvSpPr/>
          <p:nvPr/>
        </p:nvSpPr>
        <p:spPr>
          <a:xfrm>
            <a:off x="5565600" y="6081840"/>
            <a:ext cx="12960" cy="21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SMARTPenAnnotation186"/>
          <p:cNvSpPr/>
          <p:nvPr/>
        </p:nvSpPr>
        <p:spPr>
          <a:xfrm>
            <a:off x="4708440" y="5211720"/>
            <a:ext cx="341280" cy="960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Rectangle 2" descr=""/>
          <p:cNvPicPr/>
          <p:nvPr/>
        </p:nvPicPr>
        <p:blipFill>
          <a:blip r:embed="rId1"/>
          <a:stretch/>
        </p:blipFill>
        <p:spPr>
          <a:xfrm>
            <a:off x="1609560" y="268200"/>
            <a:ext cx="6010560" cy="1494000"/>
          </a:xfrm>
          <a:prstGeom prst="rect">
            <a:avLst/>
          </a:prstGeom>
          <a:ln w="0">
            <a:noFill/>
          </a:ln>
        </p:spPr>
      </p:pic>
      <p:pic>
        <p:nvPicPr>
          <p:cNvPr id="756" name="Rectangle 3" descr=""/>
          <p:cNvPicPr/>
          <p:nvPr/>
        </p:nvPicPr>
        <p:blipFill>
          <a:blip r:embed="rId2"/>
          <a:stretch/>
        </p:blipFill>
        <p:spPr>
          <a:xfrm>
            <a:off x="2054160" y="2023920"/>
            <a:ext cx="5072040" cy="392616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4" descr=""/>
          <p:cNvPicPr/>
          <p:nvPr/>
        </p:nvPicPr>
        <p:blipFill>
          <a:blip r:embed="rId3"/>
          <a:stretch/>
        </p:blipFill>
        <p:spPr>
          <a:xfrm>
            <a:off x="3962520" y="3809880"/>
            <a:ext cx="4495680" cy="2741760"/>
          </a:xfrm>
          <a:prstGeom prst="rect">
            <a:avLst/>
          </a:prstGeom>
          <a:ln w="0">
            <a:noFill/>
          </a:ln>
        </p:spPr>
      </p:pic>
      <p:sp>
        <p:nvSpPr>
          <p:cNvPr id="758" name="SMARTPenAnnotation35"/>
          <p:cNvSpPr/>
          <p:nvPr/>
        </p:nvSpPr>
        <p:spPr>
          <a:xfrm>
            <a:off x="1177920" y="4743360"/>
            <a:ext cx="1644480" cy="68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SMARTPenAnnotation36"/>
          <p:cNvSpPr/>
          <p:nvPr/>
        </p:nvSpPr>
        <p:spPr>
          <a:xfrm>
            <a:off x="1817640" y="4046400"/>
            <a:ext cx="125640" cy="1712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SMARTPenAnnotation37"/>
          <p:cNvSpPr/>
          <p:nvPr/>
        </p:nvSpPr>
        <p:spPr>
          <a:xfrm>
            <a:off x="1622520" y="3216240"/>
            <a:ext cx="1006560" cy="12765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SMARTPenAnnotation38"/>
          <p:cNvSpPr/>
          <p:nvPr/>
        </p:nvSpPr>
        <p:spPr>
          <a:xfrm>
            <a:off x="4927680" y="3165480"/>
            <a:ext cx="261720" cy="457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MARTPenAnnotation39"/>
          <p:cNvSpPr/>
          <p:nvPr/>
        </p:nvSpPr>
        <p:spPr>
          <a:xfrm>
            <a:off x="6437160" y="3211560"/>
            <a:ext cx="282600" cy="422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Rectangle 2" descr=""/>
          <p:cNvPicPr/>
          <p:nvPr/>
        </p:nvPicPr>
        <p:blipFill>
          <a:blip r:embed="rId1"/>
          <a:stretch/>
        </p:blipFill>
        <p:spPr>
          <a:xfrm>
            <a:off x="1725480" y="195120"/>
            <a:ext cx="5693040" cy="1567080"/>
          </a:xfrm>
          <a:prstGeom prst="rect">
            <a:avLst/>
          </a:prstGeom>
          <a:ln w="0">
            <a:noFill/>
          </a:ln>
        </p:spPr>
      </p:pic>
      <p:pic>
        <p:nvPicPr>
          <p:cNvPr id="764" name="Rectangle 3" descr=""/>
          <p:cNvPicPr/>
          <p:nvPr/>
        </p:nvPicPr>
        <p:blipFill>
          <a:blip r:embed="rId2"/>
          <a:stretch/>
        </p:blipFill>
        <p:spPr>
          <a:xfrm>
            <a:off x="2054160" y="2023920"/>
            <a:ext cx="504180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21:31:02Z</dcterms:created>
  <dc:creator>nuhs</dc:creator>
  <dc:description/>
  <dc:language>en-US</dc:language>
  <cp:lastModifiedBy>Ameena</cp:lastModifiedBy>
  <dcterms:modified xsi:type="dcterms:W3CDTF">2008-11-18T21:42:09Z</dcterms:modified>
  <cp:revision>16</cp:revision>
  <dc:subject/>
  <dc:title>4.3 and 4.4</dc:title>
</cp:coreProperties>
</file>